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96E-482F-4767-B2D1-3678D7B1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E8D-EDE7-485C-BE33-A42F12E2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2F5-E106-46EC-9619-76DE8D48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F2E-B0AB-4847-BD45-6E8EBA21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0C95-9C16-456B-AB85-4645A37C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E134-068C-4D7B-B408-BB2F33C7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9335-E0EB-4B76-9510-A64E6EE5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1D36-6D04-4A77-A749-E60FBA00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9FA4-35B3-4AF9-A171-02512881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0E02-C3F8-4AA2-A946-E3D68F8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CDFB-4F24-4FC5-80A9-ACFDA9C6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49D-559B-4D44-B340-2972C73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AADD-A776-44B9-9B2B-1C5B452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BD7A-2691-425F-87ED-C80624A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1A57-F967-400E-AE02-1B1428ED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905F-1E51-4780-AC7A-FE5D11B8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E7DC-3C8C-44A2-8E48-6A5CF850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5D0-1B0E-438A-863C-BE2574BA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0DC-4D52-4F9F-B201-5006D70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1A9-F506-4A7D-9F99-E94DD1AC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C2F-278E-4F7D-AB56-A3A2A223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9A2-3B8F-40CD-A81E-58789DE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469-034A-4304-98FF-AB2A9AF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CBD-E40A-4C14-8831-94B61D8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97F7-1FF1-4402-9785-F5C87A6BB8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AD08-316B-4C95-A06B-7C7B5763E8FB}" type="slidenum"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"/>
              </a:rPr>
              <a:t>PCOM RX Mixer Hacks</a:t>
            </a:r>
            <a:endParaRPr b="0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24112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Rene Barbeau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VE2UG. 2018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22 GHz transverter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76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241 GHz transverter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OM vs DB6NT MKU 47 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0 dB less compared with DB6N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s a source PCOM has similar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air the PCOM with a ZLPLL 14G and you have a basic multiband ri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n be used as a bench signal sourc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lso good for minimum &gt;1 km QSO with simple antenna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n hike your total in contests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t start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Needed a test source at 78 GHz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nd that a PCOM RX mixer have output as is. Bias port not us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ork at 78 GHz. Other frequencie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what about using it as a transverter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et’s try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OM RX Mixer M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3 ports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, WR28, SMA for LO and RX IF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3 DC lines. Bias (0 to 10V),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supplies to RX IF amp (+12V and -5V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emove RX IF amp to make bi-directionnal por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2 tests, source and transverte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sts at 24, 47, 78, 122 and 134 GH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Be bold, try 241 GHz too! Lets see if we have something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est Ben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78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a sour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e output up to 134 GHz. 241 don’t pass Manual Signal ID Test.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just bias for max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ias setting could change with load presented to WR28 por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ok in the Proceedings for all the tra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s a source, best at 47 GH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1471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42920" y="1298520"/>
            <a:ext cx="70581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ome output at 134 GH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12944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a transver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 works! Confirmed TX and RX at 78 GHz. See output at 24, 47, 122, 134 and even 241 GHz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122 GHz and above need output confirmation with on-the-air test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just bias for max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ias setting could change with load presented to WR28 por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s a transver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ike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milar designs, need a RX pream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Output at 122 GHz is surpris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ok in the Proceedings for all the tra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22:18:53Z</dcterms:created>
  <dc:creator>MonPc</dc:creator>
  <dc:description/>
  <dc:language>en-US</dc:language>
  <cp:lastModifiedBy>MonPc</cp:lastModifiedBy>
  <dcterms:modified xsi:type="dcterms:W3CDTF">2018-03-24T18:39:56Z</dcterms:modified>
  <cp:revision>111</cp:revision>
  <dc:subject/>
  <dc:title>Finding sites with HeyWhatsThat</dc:title>
</cp:coreProperties>
</file>