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8AEF-82E5-4CA1-81D7-B8DB7CCD8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9368-1D19-40AE-80D3-2C2F22C7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69D0-0413-484E-B257-C9756444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B3D0-EF31-4C85-88CC-6CB2AAD15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0635-6E93-4DD5-831F-4D37A2B27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5324-6FF9-40C9-8D25-7E38EA7E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C623-E6D7-48C0-B9E4-8AF55F1F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9DE2-4395-4967-A220-B1DBB022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2E40-A4BA-4C58-AE58-6A00D69F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1903-04E2-4FA1-951A-1CE0E363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76CB-E1A5-4F0F-917F-F1004C8C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D9FF-23A9-43B7-AF3F-3D7F3BC3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E06D-0EBF-4E73-A55F-24E3C8FB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0A20-A167-4B7B-A190-1A37804F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3CB9-5F7F-4F17-9B7B-D3B86761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DCB3-42F4-469B-B28F-BCE08B59A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F425-F21F-4C8F-90DC-32F8D1527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D182-F692-400E-8788-91087617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C216-8A6E-4416-8BD9-548D70C3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F63A-0209-4D0B-B5E9-63C65C1C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E9CF-A208-4060-85F6-2CFAF1C4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20E8-BC75-4A58-82AC-E8D2F8AF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A46E-C645-49D9-A43B-8FE85A53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699C-2DA4-4704-ACCD-0EDEEA4A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2323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23236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23236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00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232369"/>
                        </a:solidFill>
                        <a:ln w="9360">
                          <a:solidFill>
                            <a:srgbClr val="23236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2323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2323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23236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20CF-F8E3-42F4-8172-DE693944BD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2323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23236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23236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00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232369"/>
                        </a:solidFill>
                        <a:ln w="9360">
                          <a:solidFill>
                            <a:srgbClr val="23236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2323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2323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23236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1FC7-5156-4657-A5DC-F809FFDF9148}" type="slidenum">
              <a:rPr b="0" lang="fr-F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heywhatsthat.com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6" descr="IMG_20170926_091132550_4_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700" spc="-1" strike="noStrike">
                <a:solidFill>
                  <a:srgbClr val="ffff00"/>
                </a:solidFill>
                <a:latin typeface="Arial"/>
              </a:rPr>
              <a:t>Finding sites with Heywhatsthat</a:t>
            </a:r>
            <a:endParaRPr b="0" lang="en-US" sz="47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324000" y="5805000"/>
            <a:ext cx="2411280" cy="7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00"/>
                </a:solidFill>
                <a:latin typeface="Verdana"/>
              </a:rPr>
              <a:t>Rene Barbeau 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00"/>
                </a:solidFill>
                <a:latin typeface="Verdana"/>
              </a:rPr>
              <a:t>VE2UG. 2018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How it work</a:t>
            </a: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Enter Heywhatsthat website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Click on « New Panorama »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Enter data or click on map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Get result. Click on « Visibility Cloak » and « Horizon »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Zoom and survey map to find potential sites. Click site to see Path Profiler results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Tweak data in path profiler« Parameters »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ccff"/>
                </a:solidFill>
                <a:latin typeface="Verdana"/>
              </a:rPr>
              <a:t>http://www.heywhatsthat.com/techfaq.html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Entering data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53" name="Picture 4" descr="Entering data panorama P11"/>
          <p:cNvPicPr/>
          <p:nvPr/>
        </p:nvPicPr>
        <p:blipFill>
          <a:blip r:embed="rId1"/>
          <a:stretch/>
        </p:blipFill>
        <p:spPr>
          <a:xfrm>
            <a:off x="900000" y="1484280"/>
            <a:ext cx="748836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Entering dat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56" name="Picture 4" descr="Entering data panorama P11A"/>
          <p:cNvPicPr/>
          <p:nvPr/>
        </p:nvPicPr>
        <p:blipFill>
          <a:blip r:embed="rId1"/>
          <a:stretch/>
        </p:blipFill>
        <p:spPr>
          <a:xfrm>
            <a:off x="900000" y="1628640"/>
            <a:ext cx="74170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Results -&gt; Panoram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59" name="Picture 6" descr="Panorama Whiteface P12"/>
          <p:cNvPicPr/>
          <p:nvPr/>
        </p:nvPicPr>
        <p:blipFill>
          <a:blip r:embed="rId1"/>
          <a:stretch/>
        </p:blipFill>
        <p:spPr>
          <a:xfrm>
            <a:off x="250920" y="1349280"/>
            <a:ext cx="8497800" cy="52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00"/>
                </a:solidFill>
                <a:latin typeface="Arial"/>
              </a:rPr>
              <a:t>Result -&gt; Visibility cloak + Horiz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62" name="Picture 7" descr="Horizon  and visibility Whiteface P13"/>
          <p:cNvPicPr/>
          <p:nvPr/>
        </p:nvPicPr>
        <p:blipFill>
          <a:blip r:embed="rId1"/>
          <a:stretch/>
        </p:blipFill>
        <p:spPr>
          <a:xfrm>
            <a:off x="250920" y="1628640"/>
            <a:ext cx="8585280" cy="49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00"/>
                </a:solidFill>
                <a:latin typeface="Arial"/>
              </a:rPr>
              <a:t>Result -&gt; Visibility cloak + horizon to Tremblan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65" name="Picture 4" descr="Horizon + visibility Whiteface to Tremblant P14"/>
          <p:cNvPicPr/>
          <p:nvPr/>
        </p:nvPicPr>
        <p:blipFill>
          <a:blip r:embed="rId1"/>
          <a:stretch/>
        </p:blipFill>
        <p:spPr>
          <a:xfrm>
            <a:off x="395280" y="1773360"/>
            <a:ext cx="8424720" cy="46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Evaluation with Path profile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Entering new site by clicking on map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Edit parameters Menu. 0.14 is visual refraction (see techfaq)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68" name="Picture 4" descr="Entering Path Profiler"/>
          <p:cNvPicPr/>
          <p:nvPr/>
        </p:nvPicPr>
        <p:blipFill>
          <a:blip r:embed="rId1"/>
          <a:stretch/>
        </p:blipFill>
        <p:spPr>
          <a:xfrm>
            <a:off x="395280" y="3429000"/>
            <a:ext cx="828216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00"/>
                </a:solidFill>
                <a:latin typeface="Arial"/>
              </a:rPr>
              <a:t>Path Profiler result with Tremblan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71" name="Picture 4" descr="Path Profiler to Tremblant P16"/>
          <p:cNvPicPr/>
          <p:nvPr/>
        </p:nvPicPr>
        <p:blipFill>
          <a:blip r:embed="rId1"/>
          <a:stretch/>
        </p:blipFill>
        <p:spPr>
          <a:xfrm>
            <a:off x="179280" y="1413000"/>
            <a:ext cx="87138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00"/>
                </a:solidFill>
                <a:latin typeface="Arial"/>
              </a:rPr>
              <a:t>Path profiler results with Lancaste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74" name="Picture 4" descr="Path Profiler to Lancaster"/>
          <p:cNvPicPr/>
          <p:nvPr/>
        </p:nvPicPr>
        <p:blipFill>
          <a:blip r:embed="rId1"/>
          <a:stretch/>
        </p:blipFill>
        <p:spPr>
          <a:xfrm>
            <a:off x="324000" y="1700280"/>
            <a:ext cx="842472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00"/>
                </a:solidFill>
                <a:latin typeface="Arial"/>
              </a:rPr>
              <a:t>Path Profiler result with St-Hilair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77" name="Picture 4" descr="Path Profiler to St-Hilaire"/>
          <p:cNvPicPr/>
          <p:nvPr/>
        </p:nvPicPr>
        <p:blipFill>
          <a:blip r:embed="rId1"/>
          <a:stretch/>
        </p:blipFill>
        <p:spPr>
          <a:xfrm>
            <a:off x="395280" y="1413000"/>
            <a:ext cx="842472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The nee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Operating from home is difficult if not impossible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Portable operation is more flexible technically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10 GHz operation is a good start,  not limited to LOS (Line of Sight) in our experience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LOS is mandatory for higher bands, except for the better stations on 24 GHz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Path Profiler with FN47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80" name="Picture 4" descr="Path Profiler to FN47"/>
          <p:cNvPicPr/>
          <p:nvPr/>
        </p:nvPicPr>
        <p:blipFill>
          <a:blip r:embed="rId1"/>
          <a:stretch/>
        </p:blipFill>
        <p:spPr>
          <a:xfrm>
            <a:off x="539640" y="1557360"/>
            <a:ext cx="806472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Site Survey Tip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Finding a site is one thing. But is it usable ?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If possible use Google Street View before leaving !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Do a printscreen of the Path Line, for reference in the field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Be prepared for the worst (trees). I hate tree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Trees or el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FN24, LOS from Whiteface. Humm..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85" name="Picture 4" descr="Trees P21A"/>
          <p:cNvPicPr/>
          <p:nvPr/>
        </p:nvPicPr>
        <p:blipFill>
          <a:blip r:embed="rId1"/>
          <a:stretch/>
        </p:blipFill>
        <p:spPr>
          <a:xfrm>
            <a:off x="539640" y="2637000"/>
            <a:ext cx="3429000" cy="34477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Trees P21B"/>
          <p:cNvPicPr/>
          <p:nvPr/>
        </p:nvPicPr>
        <p:blipFill>
          <a:blip r:embed="rId2"/>
          <a:stretch/>
        </p:blipFill>
        <p:spPr>
          <a:xfrm>
            <a:off x="4500720" y="2637000"/>
            <a:ext cx="41432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Trees or el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FN35 top of hill. Where do I setup ?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89" name="Picture 4" descr="Trees FN35"/>
          <p:cNvPicPr/>
          <p:nvPr/>
        </p:nvPicPr>
        <p:blipFill>
          <a:blip r:embed="rId1"/>
          <a:stretch/>
        </p:blipFill>
        <p:spPr>
          <a:xfrm>
            <a:off x="755640" y="2276640"/>
            <a:ext cx="741672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Trees or el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Even one tree is enough..(FN47)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92" name="Picture 4" descr="Tree fn47"/>
          <p:cNvPicPr/>
          <p:nvPr/>
        </p:nvPicPr>
        <p:blipFill>
          <a:blip r:embed="rId1"/>
          <a:stretch/>
        </p:blipFill>
        <p:spPr>
          <a:xfrm>
            <a:off x="1619280" y="2313000"/>
            <a:ext cx="568944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Google Street View Ottaw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95" name="Picture 4" descr="Google Street View Ottawa P24"/>
          <p:cNvPicPr/>
          <p:nvPr/>
        </p:nvPicPr>
        <p:blipFill>
          <a:blip r:embed="rId1"/>
          <a:stretch/>
        </p:blipFill>
        <p:spPr>
          <a:xfrm>
            <a:off x="250920" y="1628640"/>
            <a:ext cx="856908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Path Line Whiteface vs Ottaw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We can use parking lines for heading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98" name="Picture 6" descr="Path Line Ottawa lookout"/>
          <p:cNvPicPr/>
          <p:nvPr/>
        </p:nvPicPr>
        <p:blipFill>
          <a:blip r:embed="rId1"/>
          <a:stretch/>
        </p:blipFill>
        <p:spPr>
          <a:xfrm>
            <a:off x="468360" y="2349360"/>
            <a:ext cx="8207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Path Line Tremblant vs FN24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401" name="Picture 5" descr="Path line to FN24 P26"/>
          <p:cNvPicPr/>
          <p:nvPr/>
        </p:nvPicPr>
        <p:blipFill>
          <a:blip r:embed="rId1"/>
          <a:stretch/>
        </p:blipFill>
        <p:spPr>
          <a:xfrm>
            <a:off x="250920" y="1557360"/>
            <a:ext cx="8497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00"/>
                </a:solidFill>
                <a:latin typeface="Arial"/>
              </a:rPr>
              <a:t>Path Line Whiteface vs St-Hilair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404" name="Picture 5" descr="Path line to St-Hilaire P27"/>
          <p:cNvPicPr/>
          <p:nvPr/>
        </p:nvPicPr>
        <p:blipFill>
          <a:blip r:embed="rId1"/>
          <a:stretch/>
        </p:blipFill>
        <p:spPr>
          <a:xfrm>
            <a:off x="468360" y="1557360"/>
            <a:ext cx="828036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Path Line Whiteface vs FN47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407" name="Picture 6" descr="Path line to FN47"/>
          <p:cNvPicPr/>
          <p:nvPr/>
        </p:nvPicPr>
        <p:blipFill>
          <a:blip r:embed="rId1"/>
          <a:stretch/>
        </p:blipFill>
        <p:spPr>
          <a:xfrm>
            <a:off x="468360" y="1557360"/>
            <a:ext cx="8280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The nee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Short LOS hops are easy to find, longer path need more work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Once prospective sites are found landmarks are needed to point the dish. Especially on higher bands where no beacons are available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Is there an easy, intuitive solution ?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Enter </a:t>
            </a:r>
            <a:r>
              <a:rPr b="1" lang="fr-CA" sz="3200" spc="-1" strike="noStrike">
                <a:solidFill>
                  <a:srgbClr val="ffff00"/>
                </a:solidFill>
                <a:latin typeface="Verdana"/>
              </a:rPr>
              <a:t>Heywhatstha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2015 seas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47 GHz. Granby site, 148 Km. Copied Henry KT1J on Whiteface with a bare mixer. No QSO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47 GHz. Venise-en-Quebec site near the border. No QSO due to pointing error and frequency uncertainty 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2016 seas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10 GHz. St-Hilaire site to Whiteface. 59++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24, 47 GHz. Lancaster site to Whiteface 99 Km. 59++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24, 47 GHz. Tremblant site to Whiteface 215 Km. 51 and 339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2017 seas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Survey work FN35 to Whiteface (Trees) 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10, 47 GHz, FN35. Better site near St-Hilaire (Title picture). 59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10 GHz, Huron belvedere, King Mt sites near Ottawa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47 GHz, FN24 to Whiteface. 59+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10 GHz. FN24 site to Tremblant. 59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144, 222, 1296. FN47 to Whiteface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78 GHz. Site near the border to Champlain and St-Albans. 59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And 2018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10 GHz and up. Site on Mt-Royal to Whiteface, St-Alban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More to come ! 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A great tool to find new sites and spur local activity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Way to engage small groups to work between contests. Hone skills, more points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Help to push limits at millimeter frequencies. List of sites to extend distances as skills improve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And you found the perfect reason to buy that PA/LNA or high end transverter…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Special Thank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Thanks to the group who made all this possible. It was fun! </a:t>
            </a:r>
            <a:r>
              <a:rPr b="0" lang="fr-CA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Mike N1JEZ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Ray VE3FN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Henry KT1J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Paul W1GHZ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Luc VE3LUP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Glenn VE3XRA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Dean VE3CDD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Heywhatsth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Suggested by Mike N1JEZ who uses the application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Heywhatsthat is a website that provides synthetic panoramas from a location (</a:t>
            </a:r>
            <a:r>
              <a:rPr b="0" lang="fr-CA" sz="3200" spc="-1" strike="noStrike" u="sng">
                <a:solidFill>
                  <a:srgbClr val="00ccff"/>
                </a:solidFill>
                <a:uFillTx/>
                <a:latin typeface="Verdana"/>
                <a:hlinkClick r:id="rId1"/>
              </a:rPr>
              <a:t>www.heywhatsthat.com</a:t>
            </a: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Used by sightseers, hikers to identify landmark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It has various tools, usable for Ham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4 main modul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Panorama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Visibility cloak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Verdana"/>
              </a:rPr>
              <a:t>Horizon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Path Profiler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Panoram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Used by most user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For Hams, gives a general view of the landscape. When combined with Path Profiler it gives an aiming point to the other station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Visibility cloa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Shows the terrain visible (LOS) from a hilltop, or any other site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Based on Google Map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Potential sites are easily spotted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Has been known to work up to 215 km (Whiteface - Mt Tremblant)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Arial"/>
              </a:rPr>
              <a:t>Horiz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Shows the maximum distance visible (LOS) from a hilltop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Verdana"/>
              </a:rPr>
              <a:t>Easy to spot farthest possible site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Verdana"/>
              </a:rPr>
              <a:t>Those sites may not be accessible by usual mean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Path Profile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To get a view of the path between stations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Based on Google Maps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If obstructed you can point and click on an obstruction to see where it is located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On non-LOS paths one can evaluate the effect of knife edge, or tropo horizon (like Whiteface to FN47 on the St-Laurence Valley)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5T22:18:53Z</dcterms:created>
  <dc:creator>MonPc</dc:creator>
  <dc:description/>
  <dc:language>en-US</dc:language>
  <cp:lastModifiedBy>MonPc</cp:lastModifiedBy>
  <dcterms:modified xsi:type="dcterms:W3CDTF">2018-03-20T20:03:41Z</dcterms:modified>
  <cp:revision>86</cp:revision>
  <dc:subject/>
  <dc:title>Finding sites with HeyWhatsThat</dc:title>
</cp:coreProperties>
</file>