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2.png" ContentType="image/png"/>
  <Override PartName="/ppt/media/image1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3812-EA66-4B9E-9A8E-3D5B00854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33FD-9103-40B4-BF4F-0B758626A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D957-5F0F-4685-AD1F-C5E1409AF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BB06-3EC6-454D-A462-74B163F7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5AF9-BD73-4EAE-8E1E-757FB2683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3A24-73C4-4AC7-AC27-791DA024C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CCA5-F00C-485F-AE80-C89806FD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71B8-ABE9-4B39-B12C-43A57D12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ECD2-D2B5-4998-BB84-D436F056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73B1-4881-4F90-8B52-255C1EE6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4D6B-BC37-427B-99C4-0E08DB21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C4F7-B81E-4AA2-A3F6-88FA30F4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0DC9-2BED-456B-8460-FEA5D263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BAF9-BEB6-4A3B-B9AF-F4153A7F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1E5F-E14D-4F4C-B2F8-F2D5B80F6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MAP65 Version 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44193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cc"/>
                </a:solidFill>
                <a:latin typeface="Arial"/>
              </a:rPr>
              <a:t>Joe Taylor, K1J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t Mid-Atlantic and North East VHF Confer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ober 13,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274680" y="2057400"/>
            <a:ext cx="8534520" cy="23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A Panoramic, Polarization-Matching Receiver for JT6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0" y="10508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4680" y="46080"/>
            <a:ext cx="859464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P65: Full Screen Displ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3608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130320" y="1023840"/>
            <a:ext cx="6913440" cy="5697720"/>
          </a:xfrm>
          <a:prstGeom prst="rect">
            <a:avLst/>
          </a:prstGeom>
          <a:ln w="0">
            <a:noFill/>
          </a:ln>
        </p:spPr>
      </p:pic>
      <p:sp>
        <p:nvSpPr>
          <p:cNvPr id="113" name="Title 1"/>
          <p:cNvSpPr/>
          <p:nvPr/>
        </p:nvSpPr>
        <p:spPr>
          <a:xfrm>
            <a:off x="7223040" y="1600200"/>
            <a:ext cx="182880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SO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Straight Arrow Connector 9"/>
          <p:cNvCxnSpPr/>
          <p:nvPr/>
        </p:nvCxnSpPr>
        <p:spPr>
          <a:xfrm flipH="1">
            <a:off x="6217560" y="2696760"/>
            <a:ext cx="1919880" cy="36756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5" name="Title 1"/>
          <p:cNvSpPr/>
          <p:nvPr/>
        </p:nvSpPr>
        <p:spPr>
          <a:xfrm>
            <a:off x="7043760" y="3521160"/>
            <a:ext cx="200808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x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Straight Arrow Connector 15"/>
          <p:cNvCxnSpPr/>
          <p:nvPr/>
        </p:nvCxnSpPr>
        <p:spPr>
          <a:xfrm flipH="1">
            <a:off x="6384600" y="4617720"/>
            <a:ext cx="1712160" cy="109764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7" name="Straight Arrow Connector 16"/>
          <p:cNvCxnSpPr/>
          <p:nvPr/>
        </p:nvCxnSpPr>
        <p:spPr>
          <a:xfrm flipH="1">
            <a:off x="6384600" y="4618080"/>
            <a:ext cx="1712160" cy="36576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8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d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5840" y="1530360"/>
            <a:ext cx="9144000" cy="5006880"/>
          </a:xfrm>
          <a:prstGeom prst="rect">
            <a:avLst/>
          </a:prstGeom>
          <a:ln w="0">
            <a:noFill/>
          </a:ln>
        </p:spPr>
      </p:pic>
      <p:sp>
        <p:nvSpPr>
          <p:cNvPr id="121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de Graph (detai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274680" y="1235160"/>
            <a:ext cx="8636040" cy="5518080"/>
          </a:xfrm>
          <a:prstGeom prst="rect">
            <a:avLst/>
          </a:prstGeom>
          <a:ln w="0">
            <a:noFill/>
          </a:ln>
        </p:spPr>
      </p:pic>
      <p:sp>
        <p:nvSpPr>
          <p:cNvPr id="124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800" y="960120"/>
            <a:ext cx="374796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and Ma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4114800" y="0"/>
            <a:ext cx="4724280" cy="68612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2"/>
          <p:cNvSpPr/>
          <p:nvPr/>
        </p:nvSpPr>
        <p:spPr>
          <a:xfrm>
            <a:off x="212760" y="3521160"/>
            <a:ext cx="374976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 × 10-el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pol Yag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4248000" y="168120"/>
            <a:ext cx="4346640" cy="66549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"/>
          <p:cNvSpPr/>
          <p:nvPr/>
        </p:nvSpPr>
        <p:spPr>
          <a:xfrm>
            <a:off x="182520" y="593640"/>
            <a:ext cx="365760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and Ma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grayscal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4320" y="1142640"/>
            <a:ext cx="3475080" cy="21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essag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297320" y="136440"/>
            <a:ext cx="4354560" cy="8321760"/>
          </a:xfrm>
          <a:prstGeom prst="rect">
            <a:avLst/>
          </a:prstGeom>
          <a:ln w="0">
            <a:noFill/>
          </a:ln>
        </p:spPr>
      </p:pic>
      <p:sp>
        <p:nvSpPr>
          <p:cNvPr id="134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x Hardware Interf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74680" y="1417680"/>
          <a:ext cx="8594640" cy="4695840"/>
        </p:xfrm>
        <a:graphic>
          <a:graphicData uri="http://schemas.openxmlformats.org/drawingml/2006/table">
            <a:tbl>
              <a:tblPr/>
              <a:tblGrid>
                <a:gridCol w="1404720"/>
                <a:gridCol w="1211400"/>
                <a:gridCol w="1211400"/>
                <a:gridCol w="1184040"/>
                <a:gridCol w="1195560"/>
                <a:gridCol w="1195200"/>
                <a:gridCol w="1192320"/>
              </a:tblGrid>
              <a:tr h="65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ftRo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Ncube Dong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DR-IQ, Perse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ftRo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× 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Q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L, V, 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put Freq (MHz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, 1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4, 432, 12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, 1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, 144, 4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lar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ndcard Chann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gital Interf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allel 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cy Control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, S,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, S,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, 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,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,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ont-End Software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 or 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t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 or 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t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t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t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Title 1"/>
          <p:cNvSpPr/>
          <p:nvPr/>
        </p:nvSpPr>
        <p:spPr>
          <a:xfrm>
            <a:off x="639720" y="6080040"/>
            <a:ext cx="7969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L = Linrad,       S = SDR-Radio,      M = MAP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AP65: Why do you need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49360" y="1964880"/>
            <a:ext cx="8137440" cy="44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ndom EME on 144, 432, 129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no skeds or logg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perb wideband noise blan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py all EME signals in b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itor CW as well as JT65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rtions of b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werful EME contest operating aid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364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up | Options – Station t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3508200" y="1252440"/>
            <a:ext cx="5286600" cy="5376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"/>
          <p:cNvPicPr/>
          <p:nvPr/>
        </p:nvPicPr>
        <p:blipFill>
          <a:blip r:embed="rId2"/>
          <a:stretch/>
        </p:blipFill>
        <p:spPr>
          <a:xfrm>
            <a:off x="173160" y="1317600"/>
            <a:ext cx="2963880" cy="2019240"/>
          </a:xfrm>
          <a:prstGeom prst="rect">
            <a:avLst/>
          </a:prstGeom>
          <a:ln w="0">
            <a:noFill/>
          </a:ln>
        </p:spPr>
      </p:pic>
      <p:sp>
        <p:nvSpPr>
          <p:cNvPr id="145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MAP65:    What is it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5040" y="1965240"/>
            <a:ext cx="841392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R software, works with JT65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brother” to WSJ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x hardware converts RF to baseb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s all JT65 signals in 90 kHz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Pol: Automatic polarization ma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for EME on 144, 432, 1296 M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364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up | Options – I/O De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1720800" y="1050840"/>
            <a:ext cx="5594400" cy="5732640"/>
          </a:xfrm>
          <a:prstGeom prst="rect">
            <a:avLst/>
          </a:prstGeom>
          <a:ln w="0">
            <a:noFill/>
          </a:ln>
        </p:spPr>
      </p:pic>
      <p:sp>
        <p:nvSpPr>
          <p:cNvPr id="148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360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tronomical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2949480" y="1143000"/>
            <a:ext cx="2811600" cy="5608800"/>
          </a:xfrm>
          <a:prstGeom prst="rect">
            <a:avLst/>
          </a:prstGeom>
          <a:ln w="0">
            <a:noFill/>
          </a:ln>
        </p:spPr>
      </p:pic>
      <p:sp>
        <p:nvSpPr>
          <p:cNvPr id="151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360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tation Control at K1J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1122480"/>
            <a:ext cx="4989600" cy="5506920"/>
          </a:xfrm>
          <a:prstGeom prst="rect">
            <a:avLst/>
          </a:prstGeom>
          <a:ln w="0">
            <a:noFill/>
          </a:ln>
        </p:spPr>
      </p:pic>
      <p:sp>
        <p:nvSpPr>
          <p:cNvPr id="154" name="Title 1"/>
          <p:cNvSpPr/>
          <p:nvPr/>
        </p:nvSpPr>
        <p:spPr>
          <a:xfrm>
            <a:off x="5303880" y="1325520"/>
            <a:ext cx="3747960" cy="23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File azel.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3:01:28,211.3, 64.1,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3:01:28, 98.3, 33.9,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44,   162,Dopp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15,0,fQ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"/>
          <p:cNvPicPr/>
          <p:nvPr/>
        </p:nvPicPr>
        <p:blipFill>
          <a:blip r:embed="rId2"/>
          <a:stretch/>
        </p:blipFill>
        <p:spPr>
          <a:xfrm>
            <a:off x="5211720" y="3564000"/>
            <a:ext cx="3773520" cy="3065400"/>
          </a:xfrm>
          <a:prstGeom prst="rect">
            <a:avLst/>
          </a:prstGeom>
          <a:ln w="0">
            <a:noFill/>
          </a:ln>
        </p:spPr>
      </p:pic>
      <p:sp>
        <p:nvSpPr>
          <p:cNvPr id="156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Setup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1195560" y="1662120"/>
            <a:ext cx="6752880" cy="4602240"/>
          </a:xfrm>
          <a:prstGeom prst="rect">
            <a:avLst/>
          </a:prstGeom>
          <a:ln w="0">
            <a:noFill/>
          </a:ln>
        </p:spPr>
      </p:pic>
      <p:sp>
        <p:nvSpPr>
          <p:cNvPr id="159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64680" y="274320"/>
            <a:ext cx="850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up Utility for FUNcube Do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42840" y="1874880"/>
            <a:ext cx="9034560" cy="4113000"/>
          </a:xfrm>
          <a:prstGeom prst="rect">
            <a:avLst/>
          </a:prstGeom>
          <a:ln w="0">
            <a:noFill/>
          </a:ln>
        </p:spPr>
      </p:pic>
      <p:sp>
        <p:nvSpPr>
          <p:cNvPr id="162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line User’s Gu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"/>
          <p:cNvPicPr/>
          <p:nvPr/>
        </p:nvPicPr>
        <p:blipFill>
          <a:blip r:embed="rId1"/>
          <a:stretch/>
        </p:blipFill>
        <p:spPr>
          <a:xfrm>
            <a:off x="209520" y="1701720"/>
            <a:ext cx="8659800" cy="4745160"/>
          </a:xfrm>
          <a:prstGeom prst="rect">
            <a:avLst/>
          </a:prstGeom>
          <a:ln w="0">
            <a:noFill/>
          </a:ln>
        </p:spPr>
      </p:pic>
      <p:sp>
        <p:nvSpPr>
          <p:cNvPr id="165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432 and 1296 M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006200" y="1325520"/>
            <a:ext cx="7405560" cy="51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” EME b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ch smaller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ch smaller antennas are “enough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r your own echoes wi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32:    4 x 6m yagis, 250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96:  3m dish, 150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65 is great for JT65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W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Xpol Yagis on 4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pol’n (RHC/LHC) on 12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ossible Future Modes?  </a:t>
            </a:r>
            <a:br>
              <a:rPr sz="5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JT65B2, JT65C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549360" y="2239920"/>
            <a:ext cx="841212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 × speed, for EME conte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0 s T/R sequences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up to 20 QSO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 hour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nsitivity:  3 dB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sently available in WSJT (onl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sible problems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RM?    Sub-band plan?    Switching betwe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mod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JT65 Protoco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65240"/>
            <a:ext cx="8321760" cy="42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0 s T/R sequ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ct, structured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ulation: 65-tone FSK, 2.7 ba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CC:  Reed-Solomon (63,12)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rks at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0 t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5 dB below CW lim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gt; 1000 EME users on 144 MHz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3644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rogram Comparis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235160"/>
            <a:ext cx="3962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6000" spc="-1" strike="noStrike" u="sng">
                <a:solidFill>
                  <a:srgbClr val="0066cc"/>
                </a:solidFill>
                <a:uFillTx/>
                <a:latin typeface="Arial"/>
              </a:rPr>
              <a:t>WSJ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BW 2-5 kH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Many m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Decodes one </a:t>
            </a: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One pola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4297320" y="1235160"/>
            <a:ext cx="4846680" cy="53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6000" spc="-1" strike="noStrike" u="sng">
                <a:solidFill>
                  <a:srgbClr val="ff0000"/>
                </a:solidFill>
                <a:uFillTx/>
                <a:latin typeface="Arial"/>
              </a:rPr>
              <a:t>MAP6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BW 90 kH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JT65 on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ecodes all signals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in passb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ll polarizations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(avg 3 dB bett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utomatic Band M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6"/>
          <p:cNvGrpSpPr/>
          <p:nvPr/>
        </p:nvGrpSpPr>
        <p:grpSpPr>
          <a:xfrm>
            <a:off x="365040" y="46080"/>
            <a:ext cx="8278920" cy="6534000"/>
            <a:chOff x="365040" y="46080"/>
            <a:chExt cx="8278920" cy="6534000"/>
          </a:xfrm>
        </p:grpSpPr>
        <p:sp>
          <p:nvSpPr>
            <p:cNvPr id="63" name="Isosceles Triangle 7"/>
            <p:cNvSpPr/>
            <p:nvPr/>
          </p:nvSpPr>
          <p:spPr>
            <a:xfrm rot="10800000">
              <a:off x="3355920" y="600840"/>
              <a:ext cx="836640" cy="671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Isosceles Triangle 8"/>
            <p:cNvSpPr/>
            <p:nvPr/>
          </p:nvSpPr>
          <p:spPr>
            <a:xfrm rot="10800000">
              <a:off x="3355560" y="1701360"/>
              <a:ext cx="834840" cy="671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Straight Connector 9"/>
            <p:cNvSpPr/>
            <p:nvPr/>
          </p:nvSpPr>
          <p:spPr>
            <a:xfrm>
              <a:off x="3779640" y="601560"/>
              <a:ext cx="0" cy="1100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Isosceles Triangle 10"/>
            <p:cNvSpPr/>
            <p:nvPr/>
          </p:nvSpPr>
          <p:spPr>
            <a:xfrm rot="10800000">
              <a:off x="4883040" y="612000"/>
              <a:ext cx="836640" cy="671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Isosceles Triangle 11"/>
            <p:cNvSpPr/>
            <p:nvPr/>
          </p:nvSpPr>
          <p:spPr>
            <a:xfrm rot="10800000">
              <a:off x="4883040" y="1712520"/>
              <a:ext cx="836640" cy="671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Straight Connector 12"/>
            <p:cNvSpPr/>
            <p:nvPr/>
          </p:nvSpPr>
          <p:spPr>
            <a:xfrm>
              <a:off x="5307120" y="612720"/>
              <a:ext cx="0" cy="1100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ounded Rectangle 13"/>
            <p:cNvSpPr/>
            <p:nvPr/>
          </p:nvSpPr>
          <p:spPr>
            <a:xfrm>
              <a:off x="3151080" y="2557440"/>
              <a:ext cx="2732040" cy="711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F to Baseba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Straight Connector 14"/>
            <p:cNvSpPr/>
            <p:nvPr/>
          </p:nvSpPr>
          <p:spPr>
            <a:xfrm>
              <a:off x="3779640" y="2368440"/>
              <a:ext cx="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Straight Connector 15"/>
            <p:cNvSpPr/>
            <p:nvPr/>
          </p:nvSpPr>
          <p:spPr>
            <a:xfrm>
              <a:off x="5307120" y="2379600"/>
              <a:ext cx="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6"/>
            <p:cNvSpPr/>
            <p:nvPr/>
          </p:nvSpPr>
          <p:spPr>
            <a:xfrm>
              <a:off x="3486240" y="46080"/>
              <a:ext cx="525240" cy="44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ounded Rectangle 17"/>
            <p:cNvSpPr/>
            <p:nvPr/>
          </p:nvSpPr>
          <p:spPr>
            <a:xfrm>
              <a:off x="3151080" y="3568680"/>
              <a:ext cx="2732040" cy="711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inrad,  SDR-Rad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optional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ounded Rectangle 18"/>
            <p:cNvSpPr/>
            <p:nvPr/>
          </p:nvSpPr>
          <p:spPr>
            <a:xfrm>
              <a:off x="3124080" y="4579920"/>
              <a:ext cx="2732040" cy="711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MAP6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Straight Connector 19"/>
            <p:cNvSpPr/>
            <p:nvPr/>
          </p:nvSpPr>
          <p:spPr>
            <a:xfrm>
              <a:off x="365040" y="3424320"/>
              <a:ext cx="24508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20"/>
            <p:cNvSpPr/>
            <p:nvPr/>
          </p:nvSpPr>
          <p:spPr>
            <a:xfrm>
              <a:off x="365040" y="2475000"/>
              <a:ext cx="2181240" cy="604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ardwa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21"/>
            <p:cNvSpPr/>
            <p:nvPr/>
          </p:nvSpPr>
          <p:spPr>
            <a:xfrm>
              <a:off x="365040" y="3746520"/>
              <a:ext cx="2109600" cy="533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oftwa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Straight Connector 23"/>
            <p:cNvSpPr/>
            <p:nvPr/>
          </p:nvSpPr>
          <p:spPr>
            <a:xfrm>
              <a:off x="4471920" y="4280040"/>
              <a:ext cx="0" cy="311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ounded Rectangle 24"/>
            <p:cNvSpPr/>
            <p:nvPr/>
          </p:nvSpPr>
          <p:spPr>
            <a:xfrm>
              <a:off x="365040" y="5857920"/>
              <a:ext cx="1488960" cy="711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W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Grap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ounded Rectangle 25"/>
            <p:cNvSpPr/>
            <p:nvPr/>
          </p:nvSpPr>
          <p:spPr>
            <a:xfrm>
              <a:off x="7155000" y="5869080"/>
              <a:ext cx="1488960" cy="711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Messag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ounded Rectangle 26"/>
            <p:cNvSpPr/>
            <p:nvPr/>
          </p:nvSpPr>
          <p:spPr>
            <a:xfrm>
              <a:off x="2058840" y="5857920"/>
              <a:ext cx="1488960" cy="711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Astr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ounded Rectangle 27"/>
            <p:cNvSpPr/>
            <p:nvPr/>
          </p:nvSpPr>
          <p:spPr>
            <a:xfrm>
              <a:off x="3754440" y="5869080"/>
              <a:ext cx="1487520" cy="711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ounded Rectangle 28"/>
            <p:cNvSpPr/>
            <p:nvPr/>
          </p:nvSpPr>
          <p:spPr>
            <a:xfrm>
              <a:off x="5448240" y="5869080"/>
              <a:ext cx="1488960" cy="711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Band Ma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Straight Connector 29"/>
            <p:cNvSpPr/>
            <p:nvPr/>
          </p:nvSpPr>
          <p:spPr>
            <a:xfrm flipV="1">
              <a:off x="1083960" y="5291280"/>
              <a:ext cx="252900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Straight Connector 30"/>
            <p:cNvSpPr/>
            <p:nvPr/>
          </p:nvSpPr>
          <p:spPr>
            <a:xfrm flipV="1">
              <a:off x="2815920" y="5290920"/>
              <a:ext cx="1207800" cy="564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Straight Connector 31"/>
            <p:cNvSpPr/>
            <p:nvPr/>
          </p:nvSpPr>
          <p:spPr>
            <a:xfrm flipV="1">
              <a:off x="4471920" y="5290920"/>
              <a:ext cx="0" cy="564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Straight Connector 32"/>
            <p:cNvSpPr/>
            <p:nvPr/>
          </p:nvSpPr>
          <p:spPr>
            <a:xfrm flipH="1" flipV="1">
              <a:off x="5203800" y="5291280"/>
              <a:ext cx="100152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Straight Connector 33"/>
            <p:cNvSpPr/>
            <p:nvPr/>
          </p:nvSpPr>
          <p:spPr>
            <a:xfrm flipH="1" flipV="1">
              <a:off x="5537160" y="5291280"/>
              <a:ext cx="236232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Straight Connector 39"/>
          <p:cNvSpPr/>
          <p:nvPr/>
        </p:nvSpPr>
        <p:spPr>
          <a:xfrm>
            <a:off x="4479840" y="3278160"/>
            <a:ext cx="0" cy="266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0"/>
          <p:cNvSpPr/>
          <p:nvPr/>
        </p:nvSpPr>
        <p:spPr>
          <a:xfrm>
            <a:off x="5121360" y="100080"/>
            <a:ext cx="388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680" y="136440"/>
            <a:ext cx="8594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MAP65: Version 2 Featu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47560" y="1417320"/>
            <a:ext cx="832176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s X-pol and Single-pol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-modes JT65A, B, and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rate: 96000 or 95238 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al front-ends: Linrad, SDR-Ra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x hardware: WSE converters, IQ+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eus, SDR-IQ, FUNcube Dongle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Rock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tSDK, C++ for GUI; Fortran for 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, OS X, Linux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0" y="1496880"/>
            <a:ext cx="4116240" cy="2754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189000" y="4564080"/>
            <a:ext cx="3927240" cy="2044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3"/>
          <a:stretch/>
        </p:blipFill>
        <p:spPr>
          <a:xfrm>
            <a:off x="4297320" y="4800600"/>
            <a:ext cx="4719600" cy="1757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"/>
          <p:cNvPicPr/>
          <p:nvPr/>
        </p:nvPicPr>
        <p:blipFill>
          <a:blip r:embed="rId4"/>
          <a:stretch/>
        </p:blipFill>
        <p:spPr>
          <a:xfrm>
            <a:off x="4846680" y="228600"/>
            <a:ext cx="3579840" cy="2212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" descr=""/>
          <p:cNvPicPr/>
          <p:nvPr/>
        </p:nvPicPr>
        <p:blipFill>
          <a:blip r:embed="rId5"/>
          <a:stretch/>
        </p:blipFill>
        <p:spPr>
          <a:xfrm>
            <a:off x="4454640" y="2971800"/>
            <a:ext cx="4324320" cy="15717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39360" y="136080"/>
            <a:ext cx="29257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e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R-Ra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66680" y="1325520"/>
            <a:ext cx="8794800" cy="5303880"/>
          </a:xfrm>
          <a:prstGeom prst="rect">
            <a:avLst/>
          </a:prstGeom>
          <a:ln w="0">
            <a:noFill/>
          </a:ln>
        </p:spPr>
      </p:pic>
      <p:sp>
        <p:nvSpPr>
          <p:cNvPr id="104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ormal Operation at K1J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m EM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3680" y="1874520"/>
            <a:ext cx="79549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urn on Rx, warm up P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rt Linrad and MAP6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track M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llsigns start to appear on scr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uble-click on a CQing call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ect Tx polarization (H or 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“Auto On” to call h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3T14:30:49Z</dcterms:created>
  <dc:creator>jtaylor</dc:creator>
  <dc:description/>
  <dc:language>en-US</dc:language>
  <cp:lastModifiedBy>Joseph H. Taylor</cp:lastModifiedBy>
  <cp:lastPrinted>2012-08-10T15:02:14Z</cp:lastPrinted>
  <dcterms:modified xsi:type="dcterms:W3CDTF">2012-09-28T16:48:30Z</dcterms:modified>
  <cp:revision>68</cp:revision>
  <dc:subject/>
  <dc:title>MAP65 21st Century EME</dc:title>
</cp:coreProperties>
</file>