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A43-9582-4013-B9BE-B89C5ADD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D46-E53F-4F3D-8D2B-A46DA0DE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1B8-DFE2-4382-857D-E1D46F88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FFF-2E2D-41F0-AE85-7C04E823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F4B3-04EF-4F91-B663-15FF58FB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C291-BE27-4476-86DB-93212EE4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AF22-B899-4C99-8C25-B0A1BBA0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34E2-3E77-40B7-BA4E-4BEE1AA2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B014-BCD0-44D4-9AD2-D9FB03D3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7B14-4A49-4DAC-8263-C1F81AED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25F3-B454-4EF8-B964-56A22DC0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96D-D5CE-41BB-980C-6D86EB89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A79C-CBBD-4F67-9797-EBB37E03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3018-6E8E-4EB9-AD51-0B3C7826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343E-276F-4D3A-886F-D4449486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B106-7378-4532-A7A2-35C74C5A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EEB9-08E8-4BE9-B645-548AA28E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01B-8A27-4BDE-96BA-23B3D7AF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9F6-775B-49AD-93E2-6E0CC4DB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4CE-CDDD-46E0-9F87-DDD5AD47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7D3-64DD-48EF-96A9-BE41C802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F40-258B-45B2-B3C8-C65BC65D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46B-1EB5-4CFD-889D-9FA816B1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D26-CA16-471C-888D-9592DF3C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44E6-0385-4194-B10B-960B82D7B3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BD8B-8BD0-4D82-BFCE-9E5F658243C6}" type="slidenum"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eywhatsthat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6" descr="IMG_20170926_091132550_4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700" spc="-1" strike="noStrike">
                <a:solidFill>
                  <a:srgbClr val="ffff00"/>
                </a:solidFill>
                <a:latin typeface="Arial"/>
              </a:rPr>
              <a:t>Finding sites with Heywhatsthat</a:t>
            </a:r>
            <a:endParaRPr b="0" lang="en-US" sz="47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241128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Verdana"/>
              </a:rPr>
              <a:t>Rene Barbeau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Verdana"/>
              </a:rPr>
              <a:t>VE2UG. 2018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How it work</a:t>
            </a: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Enter Heywhatsthat website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Click on « New Panorama »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Enter data or click on map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Get result. Click on « Visibility Cloak » and « Horizon »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Zoom and survey map to find potential sites. Click site to see Path Profiler result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Tweak data in path profiler« Parameters »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ccff"/>
                </a:solidFill>
                <a:latin typeface="Verdana"/>
              </a:rPr>
              <a:t>http://www.heywhatsthat.com/techfaq.html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ntering data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3" name="Picture 4" descr="Entering data panorama P11"/>
          <p:cNvPicPr/>
          <p:nvPr/>
        </p:nvPicPr>
        <p:blipFill>
          <a:blip r:embed="rId1"/>
          <a:stretch/>
        </p:blipFill>
        <p:spPr>
          <a:xfrm>
            <a:off x="900000" y="1484280"/>
            <a:ext cx="74883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ntering dat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6" name="Picture 4" descr="Entering data panorama P11A"/>
          <p:cNvPicPr/>
          <p:nvPr/>
        </p:nvPicPr>
        <p:blipFill>
          <a:blip r:embed="rId1"/>
          <a:stretch/>
        </p:blipFill>
        <p:spPr>
          <a:xfrm>
            <a:off x="900000" y="1628640"/>
            <a:ext cx="7417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Results -&gt; Panora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9" name="Picture 6" descr="Panorama Whiteface P12"/>
          <p:cNvPicPr/>
          <p:nvPr/>
        </p:nvPicPr>
        <p:blipFill>
          <a:blip r:embed="rId1"/>
          <a:stretch/>
        </p:blipFill>
        <p:spPr>
          <a:xfrm>
            <a:off x="250920" y="1349280"/>
            <a:ext cx="849780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Result -&gt; Visibility cloak + Horiz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62" name="Picture 7" descr="Horizon  and visibility Whiteface P13"/>
          <p:cNvPicPr/>
          <p:nvPr/>
        </p:nvPicPr>
        <p:blipFill>
          <a:blip r:embed="rId1"/>
          <a:stretch/>
        </p:blipFill>
        <p:spPr>
          <a:xfrm>
            <a:off x="250920" y="1628640"/>
            <a:ext cx="85852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Result -&gt; Visibility cloak + horizon to Trembla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65" name="Picture 4" descr="Horizon + visibility Whiteface to Tremblant P14"/>
          <p:cNvPicPr/>
          <p:nvPr/>
        </p:nvPicPr>
        <p:blipFill>
          <a:blip r:embed="rId1"/>
          <a:stretch/>
        </p:blipFill>
        <p:spPr>
          <a:xfrm>
            <a:off x="395280" y="1773360"/>
            <a:ext cx="842472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valuation with Path profil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Entering new site by clicking on map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Edit parameters Menu. 0.14 is visual refraction (see techfaq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68" name="Picture 4" descr="Entering Path Profiler"/>
          <p:cNvPicPr/>
          <p:nvPr/>
        </p:nvPicPr>
        <p:blipFill>
          <a:blip r:embed="rId1"/>
          <a:stretch/>
        </p:blipFill>
        <p:spPr>
          <a:xfrm>
            <a:off x="395280" y="3429000"/>
            <a:ext cx="82821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Path Profiler result with Trembla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71" name="Picture 4" descr="Path Profiler to Tremblant P16"/>
          <p:cNvPicPr/>
          <p:nvPr/>
        </p:nvPicPr>
        <p:blipFill>
          <a:blip r:embed="rId1"/>
          <a:stretch/>
        </p:blipFill>
        <p:spPr>
          <a:xfrm>
            <a:off x="179280" y="1413000"/>
            <a:ext cx="8713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Path profiler results with Lancas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74" name="Picture 4" descr="Path Profiler to Lancaster"/>
          <p:cNvPicPr/>
          <p:nvPr/>
        </p:nvPicPr>
        <p:blipFill>
          <a:blip r:embed="rId1"/>
          <a:stretch/>
        </p:blipFill>
        <p:spPr>
          <a:xfrm>
            <a:off x="324000" y="1700280"/>
            <a:ext cx="84247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Path Profiler result with St-Hilai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77" name="Picture 4" descr="Path Profiler to St-Hilaire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he ne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Operating from home is difficult if not impossibl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Portable operation is more flexible technically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10 GHz operation is a good start,  not limited to LOS (Line of Sight) in our experienc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LOS is mandatory for higher bands, except for the better stations on 24 GHz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Profiler with FN47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80" name="Picture 4" descr="Path Profiler to FN47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ite Survey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Finding a site is one thing. But is it usable 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If possible use Google Street View before leaving !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Do a printscreen of the Path Line, for reference in the fiel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Be prepared for the worst (trees). I hate tre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rees or el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FN24, LOS from Whiteface. Humm..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85" name="Picture 4" descr="Trees P21A"/>
          <p:cNvPicPr/>
          <p:nvPr/>
        </p:nvPicPr>
        <p:blipFill>
          <a:blip r:embed="rId1"/>
          <a:stretch/>
        </p:blipFill>
        <p:spPr>
          <a:xfrm>
            <a:off x="539640" y="2637000"/>
            <a:ext cx="3429000" cy="3447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Trees P21B"/>
          <p:cNvPicPr/>
          <p:nvPr/>
        </p:nvPicPr>
        <p:blipFill>
          <a:blip r:embed="rId2"/>
          <a:stretch/>
        </p:blipFill>
        <p:spPr>
          <a:xfrm>
            <a:off x="4500720" y="2637000"/>
            <a:ext cx="41432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rees or el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FN35 top of hill. Where do I setup 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89" name="Picture 4" descr="Trees FN35"/>
          <p:cNvPicPr/>
          <p:nvPr/>
        </p:nvPicPr>
        <p:blipFill>
          <a:blip r:embed="rId1"/>
          <a:stretch/>
        </p:blipFill>
        <p:spPr>
          <a:xfrm>
            <a:off x="755640" y="2276640"/>
            <a:ext cx="7416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rees or el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Even one tree is enough..(FN47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92" name="Picture 4" descr="Tree fn47"/>
          <p:cNvPicPr/>
          <p:nvPr/>
        </p:nvPicPr>
        <p:blipFill>
          <a:blip r:embed="rId1"/>
          <a:stretch/>
        </p:blipFill>
        <p:spPr>
          <a:xfrm>
            <a:off x="1619280" y="2313000"/>
            <a:ext cx="568944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Google Street View Ottaw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95" name="Picture 4" descr="Google Street View Ottawa P24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Line Whiteface vs Ottaw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We can use parking lines for heading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98" name="Picture 6" descr="Path Line Ottawa lookout"/>
          <p:cNvPicPr/>
          <p:nvPr/>
        </p:nvPicPr>
        <p:blipFill>
          <a:blip r:embed="rId1"/>
          <a:stretch/>
        </p:blipFill>
        <p:spPr>
          <a:xfrm>
            <a:off x="468360" y="2349360"/>
            <a:ext cx="8207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Line Tremblant vs FN24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01" name="Picture 5" descr="Path line to FN24 P26"/>
          <p:cNvPicPr/>
          <p:nvPr/>
        </p:nvPicPr>
        <p:blipFill>
          <a:blip r:embed="rId1"/>
          <a:stretch/>
        </p:blipFill>
        <p:spPr>
          <a:xfrm>
            <a:off x="250920" y="1557360"/>
            <a:ext cx="8497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Path Line Whiteface vs St-Hilai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04" name="Picture 5" descr="Path line to St-Hilaire P27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Line Whiteface vs FN47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07" name="Picture 6" descr="Path line to FN47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he ne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Short LOS hops are easy to find, longer path need more work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Once prospective sites are found landmarks are needed to point the dish. Especially on higher bands where no beacons are availabl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Is there an easy, intuitive solution 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Enter </a:t>
            </a:r>
            <a:r>
              <a:rPr b="1" lang="fr-CA" sz="3200" spc="-1" strike="noStrike">
                <a:solidFill>
                  <a:srgbClr val="ffff00"/>
                </a:solidFill>
                <a:latin typeface="Verdana"/>
              </a:rPr>
              <a:t>Heywhatsth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2015 seas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47 GHz. Granby site, 148 Km. Copied Henry KT1J on Whiteface with a bare mixer. No QSO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47 GHz. Venise-en-Quebec site near the border. No QSO due to pointing error and frequency uncertainty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2016 seas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10 GHz. St-Hilaire site to Whiteface. 59++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24, 47 GHz. Lancaster site to Whiteface 99 Km. 59++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24, 47 GHz. Tremblant site to Whiteface 215 Km. 51 and 339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2017 seas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Survey work FN35 to Whiteface (Trees) 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10, 47 GHz, FN35. Better site near St-Hilaire (Title picture). 59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10 GHz, Huron belvedere, King Mt sites near Ottawa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47 GHz, FN24 to Whiteface. 59+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10 GHz. FN24 site to Tremblant. 59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144, 222, 1296. FN47 to Whiteface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78 GHz. Site near the border to Champlain and St-Albans. 59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And 2018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10 GHz and up. Site on Mt-Royal to Whiteface, St-Alban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More to come !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A great tool to find new sites and spur local activity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Way to engage small groups to work between contests. Hone skills, more point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Help to push limits at millimeter frequencies. List of sites to extend distances as skills improve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And you found the perfect reason to buy that PA/LNA or high end transverter…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pecial 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Thanks to the group who made all this possible. It was fun! </a:t>
            </a:r>
            <a:r>
              <a:rPr b="0" lang="fr-CA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Mike N1JEZ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Ray VE3FN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Henry KT1J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Paul W1GHZ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Luc VE3LUP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Glenn VE3XRA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Dean VE3CDD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Heywhatsth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Suggested by Mike N1JEZ who uses the applicatio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Heywhatsthat is a website that provides synthetic panoramas from a location (</a:t>
            </a:r>
            <a:r>
              <a:rPr b="0" lang="fr-CA" sz="3200" spc="-1" strike="noStrike" u="sng">
                <a:solidFill>
                  <a:srgbClr val="00ccff"/>
                </a:solidFill>
                <a:uFillTx/>
                <a:latin typeface="Verdana"/>
                <a:hlinkClick r:id="rId1"/>
              </a:rPr>
              <a:t>www.heywhatsthat.com</a:t>
            </a: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Used by sightseers, hikers to identify landmark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It has various tools, usable for Ham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4 main modul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Panorama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Visibility cloak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Verdana"/>
              </a:rPr>
              <a:t>Horizo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Path Profiler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nora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Used by most user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For Hams, gives a general view of the landscape. When combined with Path Profiler it gives an aiming point to the other statio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Visibility cloa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Shows the terrain visible (LOS) from a hilltop, or any other sit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Based on Google Map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Potential sites are easily spotte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Has been known to work up to 215 km (Whiteface - Mt Tremblant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Arial"/>
              </a:rPr>
              <a:t>Horiz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Shows the maximum distance visible (LOS) from a hilltop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Verdana"/>
              </a:rPr>
              <a:t>Easy to spot farthest possible sit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Verdana"/>
              </a:rPr>
              <a:t>Those sites may not be accessible by usual mean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Profil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To get a view of the path between station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Based on Google Map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If obstructed you can point and click on an obstruction to see where it is located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On non-LOS paths one can evaluate the effect of knife edge, or tropo horizon (like Whiteface to FN47 on the St-Laurence Valley)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22:18:53Z</dcterms:created>
  <dc:creator>MonPc</dc:creator>
  <dc:description/>
  <dc:language>en-US</dc:language>
  <cp:lastModifiedBy>MonPc</cp:lastModifiedBy>
  <dcterms:modified xsi:type="dcterms:W3CDTF">2018-03-20T20:03:41Z</dcterms:modified>
  <cp:revision>86</cp:revision>
  <dc:subject/>
  <dc:title>Finding sites with HeyWhatsThat</dc:title>
</cp:coreProperties>
</file>