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03F-02AA-404A-9C4E-7E9809BD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9ED-A882-44CD-ABB3-CD06C8A9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65A-9238-43EB-95CF-363317C1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1F1-7416-49D0-95E5-C0FDFBBB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4C55-0D4F-4860-AB9C-87A06037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F061-EF19-46B4-BD02-87471B1A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2961-FD25-443B-B0B1-FEABA1DF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B732-108F-404D-8445-D9508E18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1B1E-59AD-4224-AB5D-5F139220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1F82-07F1-4488-A6CE-FA8F87D8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D5EF-9084-4F27-995F-CFF8D873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BC7-E212-466B-B27A-1A22F6F3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D740-DFA1-47D3-8A2C-C51A7627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7B60-8038-43F2-8AE3-DECC66E7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C2D0-25AE-4599-934C-391EEC73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60ED-30A1-4061-882A-C1ED7A9B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FCD9-20D6-40CA-8640-77023FF1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5C7-C1E5-46D5-A4AB-08F5C744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935-7FBD-4036-B556-3EB71D30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B39-D4F3-4856-B86C-A61A56B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CA7-E6E6-44FE-9AB5-E042D9B5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644-CEC2-4420-BB4E-ADFDBEA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D05-7781-48B9-9264-3FCED6ED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4F1-C840-4797-99AE-3BA93311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F76A-0471-47B9-9EAB-4F9D82D772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6E97-1F0E-47D3-AB8D-DF655EBCBD3E}" type="slidenum"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"/>
              </a:rPr>
              <a:t>PCOM RX Mixer Hacks</a:t>
            </a:r>
            <a:endParaRPr b="0" lang="en-US" sz="47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241128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Rene Barbeau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VE2UG. 2018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22 GHz transverter 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76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241 GHz transverter 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COM vs DB6NT MKU 47 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0 dB less compared with DB6N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s a source PCOM has similar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air the PCOM with a ZLPLL 14G and you have a basic multiband ri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an be used as a bench signal sourc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lso good for minimum &gt;1 km QSO with simple antenna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an hike your total in contests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t start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Needed a test source at 78 GHz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nd that a PCOM RX mixer have output as is. Bias port not us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ork at 78 GHz. Other frequencie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what about using it as a transverter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et’s try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COM RX Mixer Mo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3 ports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, WR28, SMA for LO and RX IF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3 DC lines. Bias (0 to 10V),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supplies to RX IF amp (+12V and -5V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emove RX IF amp to make bi-directionnal por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2 tests, source and transverter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ests at 24, 47, 78, 122 and 134 GH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Be bold, try 241 GHz too! Lets see if we have something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est Ben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978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a sour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e output up to 134 GHz. 241 don’t pass Manual Signal ID Test.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just bias for max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ias setting could change with load presented to WR28 por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ok in the Proceedings for all the trac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s a source, best at 47 GH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1471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42920" y="1298520"/>
            <a:ext cx="70581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ome output at 134 GH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12944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a transver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 works! Confirmed TX and RX at 78 GHz. See output at 24, 47, 122, 134 and even 241 GHz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122 GHz and above need output confirmation with on-the-air test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just bias for max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ias setting could change with load presented to WR28 por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s a transver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ike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milar designs, need a RX pream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Output at 122 GHz is surprisin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ok in the Proceedings for all the trac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22:18:53Z</dcterms:created>
  <dc:creator>MonPc</dc:creator>
  <dc:description/>
  <dc:language>en-US</dc:language>
  <cp:lastModifiedBy>MonPc</cp:lastModifiedBy>
  <dcterms:modified xsi:type="dcterms:W3CDTF">2018-03-24T18:39:56Z</dcterms:modified>
  <cp:revision>111</cp:revision>
  <dc:subject/>
  <dc:title>Finding sites with HeyWhatsThat</dc:title>
</cp:coreProperties>
</file>