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AF53-381B-4FD7-9A39-4496F6874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C689-C5EF-4EF5-B84C-89248D42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AD6C-4D08-488A-8B34-51ACBE537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819A-2723-43F1-B5B9-1192AFCB9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9A39-2B5F-41B6-9704-F4F66F32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1E3D-E38A-469B-84A1-89350FC9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2E56-2E61-4991-B314-25AB1EE9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A320-72A8-41D9-A06E-3A8ABCEB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678168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D566-38F5-4787-B04A-91DFAB16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FCD8-EFC7-4C2B-B9E3-30E92D3C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B7DC-8CDB-4C09-837D-5B09B816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A84A-B085-44CB-A3CB-44AC7E43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d5dff"/>
              </a:gs>
              <a:gs pos="100000">
                <a:srgbClr val="0409e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≈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dddddd"/>
                </a:solidFill>
                <a:latin typeface="Arial"/>
              </a:rPr>
              <a:t>Mar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CA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dddddd"/>
                </a:solidFill>
                <a:latin typeface="Arial"/>
              </a:rPr>
              <a:t>BatteryMonitor Trim Resis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0952-3F81-412C-B04F-DA470436D463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257960" y="241200"/>
            <a:ext cx="1544760" cy="828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i="1" lang="en-CA" sz="4000" spc="-1" strike="noStrike">
                <a:solidFill>
                  <a:srgbClr val="ffff00"/>
                </a:solidFill>
                <a:latin typeface="Arial"/>
              </a:rPr>
              <a:t>Trim Resistor</a:t>
            </a: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000" spc="-1" strike="noStrike">
                <a:solidFill>
                  <a:srgbClr val="ffff00"/>
                </a:solidFill>
                <a:latin typeface="Arial"/>
              </a:rPr>
              <a:t>Used if current to voltage converter is outside +/- 5 % tolerance</a:t>
            </a:r>
            <a:endParaRPr b="1" i="1" lang="en-US" sz="2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000" spc="-1" strike="noStrike">
                <a:solidFill>
                  <a:srgbClr val="ffff00"/>
                </a:solidFill>
                <a:latin typeface="Arial"/>
              </a:rPr>
              <a:t>Parallel resistor trims sense resistor to just under 2.5mOhms</a:t>
            </a:r>
            <a:endParaRPr b="1" i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395960" y="1933560"/>
            <a:ext cx="4389120" cy="3889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23960" y="3611520"/>
            <a:ext cx="4038480" cy="1881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BA3F-BF41-43DA-A77D-FEAE5EEACFC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6:02:54Z</dcterms:created>
  <dc:creator>PostHouse</dc:creator>
  <dc:description/>
  <dc:language>en-US</dc:language>
  <cp:lastModifiedBy>w.getchell</cp:lastModifiedBy>
  <cp:lastPrinted>2011-03-11T04:19:00Z</cp:lastPrinted>
  <dcterms:modified xsi:type="dcterms:W3CDTF">2011-03-24T21:32:11Z</dcterms:modified>
  <cp:revision>138</cp:revision>
  <dc:subject/>
  <dc:title>Slide 1</dc:title>
</cp:coreProperties>
</file>