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CFC-07BE-4465-840A-46947C653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" y="3866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4A1-9398-4BF5-92F1-0F093849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540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D66-AB58-4238-87B0-CE725D51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836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5080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33240" y="3866400"/>
            <a:ext cx="264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7B00-F2EF-4ED6-A410-568E9E1D5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AFF-68DE-4EF8-9FF1-ADE097E6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8ED5-D019-42CD-BA3E-FDD72DD6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49B-4CCD-4B27-A801-2B28C062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AE7-B8C1-48EE-82BD-D2FA8F0F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280" y="259920"/>
            <a:ext cx="754884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92AF-A4CB-4D4F-A526-C5D20989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5B81-5D3B-4EF8-8A6A-16120055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5400" y="386640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0D6-C9D7-4203-890F-1B7FE5D5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66400"/>
            <a:ext cx="82296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01B-6928-4B48-9824-8D36286F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≈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ddddd"/>
                </a:solidFill>
                <a:latin typeface="Arial"/>
              </a:rPr>
              <a:t>Apr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ddddd"/>
                </a:solidFill>
                <a:latin typeface="Arial"/>
              </a:rPr>
              <a:t>24-23cm A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4F43-E579-477F-95DD-D9B55893D5EC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942320" y="243000"/>
            <a:ext cx="1068480" cy="680760"/>
            <a:chOff x="7942320" y="243000"/>
            <a:chExt cx="1068480" cy="680760"/>
          </a:xfrm>
        </p:grpSpPr>
        <p:sp>
          <p:nvSpPr>
            <p:cNvPr id="7" name=""/>
            <p:cNvSpPr/>
            <p:nvPr/>
          </p:nvSpPr>
          <p:spPr>
            <a:xfrm>
              <a:off x="7942320" y="584280"/>
              <a:ext cx="239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678880" y="584280"/>
              <a:ext cx="331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5400000">
              <a:off x="8226360" y="288720"/>
              <a:ext cx="680760" cy="588960"/>
            </a:xfrm>
            <a:prstGeom prst="triangle">
              <a:avLst>
                <a:gd name="adj" fmla="val 50000"/>
              </a:avLst>
            </a:prstGeom>
            <a:solidFill>
              <a:srgbClr val="0033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rot="5400000">
              <a:off x="8043840" y="401400"/>
              <a:ext cx="419040" cy="362160"/>
            </a:xfrm>
            <a:prstGeom prst="triangle">
              <a:avLst>
                <a:gd name="adj" fmla="val 50000"/>
              </a:avLst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4360" y="692280"/>
            <a:ext cx="8135640" cy="503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66"/>
                </a:solidFill>
                <a:latin typeface="Arial"/>
              </a:rPr>
              <a:t>24 – 23 cm Amplifier I/O Cabl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for PCB Ver 0.0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Wayne Getch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                                         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VE3C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CB Prototyp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2795-6D53-4076-B43B-8B74A56AFA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E3250F-C86D-4483-BD18-C0A98E5A64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ffff66"/>
                </a:solidFill>
                <a:latin typeface="Arial"/>
              </a:rPr>
              <a:t>PCB to I/O Connections </a:t>
            </a: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561440" cy="475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11360" y="1176480"/>
            <a:ext cx="7719840" cy="487656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333333"/>
            </a:outerShdw>
          </a:effectLst>
        </p:spPr>
      </p:pic>
      <p:grpSp>
        <p:nvGrpSpPr>
          <p:cNvPr id="52" name=""/>
          <p:cNvGrpSpPr/>
          <p:nvPr/>
        </p:nvGrpSpPr>
        <p:grpSpPr>
          <a:xfrm>
            <a:off x="5765760" y="3573360"/>
            <a:ext cx="2152800" cy="2232000"/>
            <a:chOff x="5765760" y="3573360"/>
            <a:chExt cx="2152800" cy="2232000"/>
          </a:xfrm>
        </p:grpSpPr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5765760" y="4413240"/>
              <a:ext cx="935280" cy="93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938920" y="3573360"/>
              <a:ext cx="17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6 Pin Mini-D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92760" y="3924360"/>
              <a:ext cx="211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Chassis Con Front 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40640" y="4219560"/>
              <a:ext cx="117792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Demo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PT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Rly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Gn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Shell -  G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CB Prototy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7B4-BB25-453C-8C54-D00A47D46D3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57040-221F-40E0-99AE-26CEF49872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ffff66"/>
                </a:solidFill>
                <a:latin typeface="Arial"/>
              </a:rPr>
              <a:t>Control Cable</a:t>
            </a: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19440" y="1819440"/>
            <a:ext cx="6105240" cy="4028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89604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66"/>
                </a:solidFill>
                <a:latin typeface="Arial"/>
              </a:rPr>
              <a:t>Male 6 Pin mini-DIN</a:t>
            </a:r>
            <a:endParaRPr b="1" i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647800" y="3209760"/>
            <a:ext cx="1843200" cy="1843200"/>
            <a:chOff x="2647800" y="3209760"/>
            <a:chExt cx="1843200" cy="1843200"/>
          </a:xfrm>
        </p:grpSpPr>
        <p:grpSp>
          <p:nvGrpSpPr>
            <p:cNvPr id="61" name=""/>
            <p:cNvGrpSpPr/>
            <p:nvPr/>
          </p:nvGrpSpPr>
          <p:grpSpPr>
            <a:xfrm>
              <a:off x="2647800" y="3209760"/>
              <a:ext cx="1843200" cy="1843200"/>
              <a:chOff x="2647800" y="3209760"/>
              <a:chExt cx="1843200" cy="1843200"/>
            </a:xfrm>
          </p:grpSpPr>
          <p:pic>
            <p:nvPicPr>
              <p:cNvPr id="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647800" y="3209760"/>
                <a:ext cx="1843200" cy="184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3438360" y="3738240"/>
                <a:ext cx="252720" cy="4525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2847600" y="3508200"/>
              <a:ext cx="1435680" cy="1022760"/>
              <a:chOff x="2847600" y="3508200"/>
              <a:chExt cx="1435680" cy="1022760"/>
            </a:xfrm>
          </p:grpSpPr>
          <p:sp>
            <p:nvSpPr>
              <p:cNvPr id="65" name=""/>
              <p:cNvSpPr/>
              <p:nvPr/>
            </p:nvSpPr>
            <p:spPr>
              <a:xfrm>
                <a:off x="3814200" y="35082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039480" y="35096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017240" y="39258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847600" y="39272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687120" y="42526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79160" y="4254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"/>
          <p:cNvSpPr/>
          <p:nvPr/>
        </p:nvSpPr>
        <p:spPr>
          <a:xfrm>
            <a:off x="4930920" y="3429000"/>
            <a:ext cx="2054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Red  Demo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/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Yel  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lr    P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Brn   Rly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/C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hell -  bare wire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30680" y="202716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cued from a PC key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85720" y="290988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le Cabl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CB Prototyp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6E3-A2AC-45EB-844C-7C1A62F89F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A9A59-24BD-40EA-B909-7F8A672A76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54884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66"/>
                </a:solidFill>
                <a:latin typeface="Arial"/>
              </a:rPr>
              <a:t>Cover Template</a:t>
            </a:r>
            <a:endParaRPr b="1" i="1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205000"/>
          <a:ext cx="4038480" cy="309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05000"/>
                    <a:ext cx="40384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0" y="1038240"/>
            <a:ext cx="9144000" cy="746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2565360"/>
            <a:ext cx="1511280" cy="1511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1844640"/>
            <a:ext cx="1511280" cy="7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4246200" y="2962080"/>
            <a:ext cx="1513080" cy="7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2014200" y="2961720"/>
            <a:ext cx="1513080" cy="7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3131640" y="4076640"/>
            <a:ext cx="1513080" cy="719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203640" y="414972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51280" y="4076640"/>
            <a:ext cx="79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Demo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PT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Rly Sense Ou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G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Shell -  bare wi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89160" y="1844640"/>
            <a:ext cx="1587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700" spc="-1" strike="noStrike">
                <a:solidFill>
                  <a:srgbClr val="000000"/>
                </a:solidFill>
                <a:latin typeface="Arial"/>
              </a:rPr>
              <a:t>24-23cm Am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92200" y="3305160"/>
            <a:ext cx="6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200" spc="-1" strike="noStrike">
                <a:solidFill>
                  <a:srgbClr val="000000"/>
                </a:solidFill>
                <a:latin typeface="Arial"/>
              </a:rPr>
              <a:t>Tx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11320" y="2565360"/>
          <a:ext cx="1974960" cy="13384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1320" y="2565360"/>
                    <a:ext cx="19749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413080" y="373860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200" spc="-1" strike="noStrike">
                <a:solidFill>
                  <a:srgbClr val="000000"/>
                </a:solidFill>
                <a:latin typeface="Arial"/>
              </a:rPr>
              <a:t>Rx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00800" y="262080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2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76720" y="328464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59280" y="3284640"/>
            <a:ext cx="142920" cy="144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3284640"/>
            <a:ext cx="142920" cy="1443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463640" y="308772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O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926240" y="3088440"/>
            <a:ext cx="46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Pw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717800" y="3105360"/>
            <a:ext cx="43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6840" y="3489480"/>
            <a:ext cx="7333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10 - 15V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800" spc="-1" strike="noStrike">
                <a:solidFill>
                  <a:srgbClr val="000000"/>
                </a:solidFill>
                <a:latin typeface="Arial"/>
              </a:rPr>
              <a:t>9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724280" y="3606840"/>
            <a:ext cx="581040" cy="331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95720" y="2174760"/>
            <a:ext cx="139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Max I/P Pwr = 10m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33640" y="3798720"/>
            <a:ext cx="10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PTT is active low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Rly Sen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0V Rx  5V Tx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41720" y="3967200"/>
            <a:ext cx="103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600" spc="-1" strike="noStrike">
                <a:solidFill>
                  <a:srgbClr val="000000"/>
                </a:solidFill>
                <a:latin typeface="Arial"/>
              </a:rPr>
              <a:t>Control mini-DI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86080" y="2651040"/>
            <a:ext cx="698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2 mW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20W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CA" sz="1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1" i="1" lang="en-CA" sz="1000" spc="-1" strike="noStrike">
                <a:solidFill>
                  <a:srgbClr val="000000"/>
                </a:solidFill>
                <a:latin typeface="Arial"/>
              </a:rPr>
              <a:t>= 5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CB Prototyp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CC8-6BDC-423C-BD36-B43B296297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82811-59FD-40DB-9ECB-700E7811F7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w.getchell</cp:lastModifiedBy>
  <dcterms:modified xsi:type="dcterms:W3CDTF">2013-04-03T02:27:05Z</dcterms:modified>
  <cp:revision>134</cp:revision>
  <dc:subject/>
  <dc:title>Blue abstract background </dc:title>
</cp:coreProperties>
</file>