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C8D-502F-43CF-87CD-2C4D3FA6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CBE-00ED-4B54-8190-8FD589421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AD3E-91B7-4A36-A48A-C41F969C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8DE-6D9A-4A90-AE70-6D5A7D7D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464-28CC-486F-96C7-09CF4581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9536-AC47-4088-916C-A1ACDD22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90F5-ED88-4E9D-A3B6-321EF23A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17D2-8FF5-4757-963E-A2D2B8B4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67816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3179-1FE0-43E9-97BA-CEFA5CB6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90B3-CB06-430B-BB8C-88A6F9A3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BC6C-8B80-4388-A866-285452F0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11C-C006-4BDE-91CE-3549F6FC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d5dff"/>
              </a:gs>
              <a:gs pos="100000">
                <a:srgbClr val="0409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≈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dddddd"/>
                </a:solidFill>
                <a:latin typeface="Arial"/>
              </a:rPr>
              <a:t>Mar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CA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dddddd"/>
                </a:solidFill>
                <a:latin typeface="Arial"/>
              </a:rPr>
              <a:t>BatteryMonitor Trim Resis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6964-B15E-490F-82AE-378A619A3047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257960" y="241200"/>
            <a:ext cx="1544760" cy="828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CA" sz="4000" spc="-1" strike="noStrike">
                <a:solidFill>
                  <a:srgbClr val="ffff00"/>
                </a:solidFill>
                <a:latin typeface="Arial"/>
              </a:rPr>
              <a:t>Trim Resistor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00"/>
                </a:solidFill>
                <a:latin typeface="Arial"/>
              </a:rPr>
              <a:t>Used if current to voltage converter is outside +/- 5 % tolerance</a:t>
            </a:r>
            <a:endParaRPr b="1" i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00"/>
                </a:solidFill>
                <a:latin typeface="Arial"/>
              </a:rPr>
              <a:t>Parallel resistor trims sense resistor to just under 2.5mOhms</a:t>
            </a:r>
            <a:endParaRPr b="1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395960" y="1933560"/>
            <a:ext cx="4389120" cy="3889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3960" y="3611520"/>
            <a:ext cx="4038480" cy="1881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C3F-4940-4984-AC96-75E5632273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6:02:54Z</dcterms:created>
  <dc:creator>PostHouse</dc:creator>
  <dc:description/>
  <dc:language>en-US</dc:language>
  <cp:lastModifiedBy>w.getchell</cp:lastModifiedBy>
  <cp:lastPrinted>2011-03-11T04:19:00Z</cp:lastPrinted>
  <dcterms:modified xsi:type="dcterms:W3CDTF">2011-03-24T21:32:11Z</dcterms:modified>
  <cp:revision>138</cp:revision>
  <dc:subject/>
  <dc:title>Slide 1</dc:title>
</cp:coreProperties>
</file>