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240F-3C80-48FF-B2A9-4E9261891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A91A-28DD-4D4C-AC55-EE16BCE7B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24F-EF10-463D-A377-4EA12BEF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99E-2A93-40E3-B5AC-25544C2E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884-9666-4EB9-9165-B176B308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FDA-9878-4B48-9BDB-362B7BFB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D43-B2BE-4417-97D6-66AA91DD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54E-9D9E-4066-83E0-9896FF9C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6B09-72F3-409D-9CE1-070B3A40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CB21-442F-4EF3-B4FA-9F2A2FFC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E27-44EC-4250-B057-6C12786B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8119-AED1-4639-BF24-34010053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2856-00D2-4925-B6FD-FD3F00CC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DA6-141B-43CC-B3B6-1D0EB436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9B98-3798-42C7-9172-D8D788A1D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MAP65 Version 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4419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Arial"/>
              </a:rPr>
              <a:t>Joe Taylor, K1J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Mid-Atlantic and North East VHF Con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tober 13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74680" y="2057400"/>
            <a:ext cx="853452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A Panoramic, Polarization-Matching Receiver for JT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10508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4680" y="46080"/>
            <a:ext cx="85946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P65: Full Screen Displ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130320" y="1023840"/>
            <a:ext cx="6913440" cy="5697720"/>
          </a:xfrm>
          <a:prstGeom prst="rect">
            <a:avLst/>
          </a:prstGeom>
          <a:ln w="0">
            <a:noFill/>
          </a:ln>
        </p:spPr>
      </p:pic>
      <p:sp>
        <p:nvSpPr>
          <p:cNvPr id="113" name="Title 1"/>
          <p:cNvSpPr/>
          <p:nvPr/>
        </p:nvSpPr>
        <p:spPr>
          <a:xfrm>
            <a:off x="7223040" y="1600200"/>
            <a:ext cx="182880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SO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9"/>
          <p:cNvCxnSpPr/>
          <p:nvPr/>
        </p:nvCxnSpPr>
        <p:spPr>
          <a:xfrm flipH="1">
            <a:off x="6217560" y="2696760"/>
            <a:ext cx="1919880" cy="3675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5" name="Title 1"/>
          <p:cNvSpPr/>
          <p:nvPr/>
        </p:nvSpPr>
        <p:spPr>
          <a:xfrm>
            <a:off x="7043760" y="3521160"/>
            <a:ext cx="200808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15"/>
          <p:cNvCxnSpPr/>
          <p:nvPr/>
        </p:nvCxnSpPr>
        <p:spPr>
          <a:xfrm flipH="1">
            <a:off x="6384600" y="4617720"/>
            <a:ext cx="1712160" cy="10976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7" name="Straight Arrow Connector 16"/>
          <p:cNvCxnSpPr/>
          <p:nvPr/>
        </p:nvCxnSpPr>
        <p:spPr>
          <a:xfrm flipH="1">
            <a:off x="6384600" y="4618080"/>
            <a:ext cx="1712160" cy="3657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840" y="1530360"/>
            <a:ext cx="9144000" cy="5006880"/>
          </a:xfrm>
          <a:prstGeom prst="rect">
            <a:avLst/>
          </a:prstGeom>
          <a:ln w="0">
            <a:noFill/>
          </a:ln>
        </p:spPr>
      </p:pic>
      <p:sp>
        <p:nvSpPr>
          <p:cNvPr id="12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 Graph (detai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74680" y="1235160"/>
            <a:ext cx="8636040" cy="551808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800" y="960120"/>
            <a:ext cx="37479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d M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114800" y="0"/>
            <a:ext cx="472428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212760" y="3521160"/>
            <a:ext cx="374976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× 10-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pol Yag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248000" y="168120"/>
            <a:ext cx="4346640" cy="66549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82520" y="593640"/>
            <a:ext cx="365760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nd M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graysca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320" y="1142640"/>
            <a:ext cx="3475080" cy="21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97320" y="136440"/>
            <a:ext cx="4354560" cy="8321760"/>
          </a:xfrm>
          <a:prstGeom prst="rect">
            <a:avLst/>
          </a:prstGeom>
          <a:ln w="0">
            <a:noFill/>
          </a:ln>
        </p:spPr>
      </p:pic>
      <p:sp>
        <p:nvSpPr>
          <p:cNvPr id="13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x Hardware Interf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74680" y="1417680"/>
          <a:ext cx="8594640" cy="4695840"/>
        </p:xfrm>
        <a:graphic>
          <a:graphicData uri="http://schemas.openxmlformats.org/drawingml/2006/table">
            <a:tbl>
              <a:tblPr/>
              <a:tblGrid>
                <a:gridCol w="1404720"/>
                <a:gridCol w="1211400"/>
                <a:gridCol w="1211400"/>
                <a:gridCol w="1184040"/>
                <a:gridCol w="1195560"/>
                <a:gridCol w="1195200"/>
                <a:gridCol w="1192320"/>
              </a:tblGrid>
              <a:tr h="65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R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cube Do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R-IQ, Pers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R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× 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Q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L, V, 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put Freq (M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 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, 432, 1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, 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, 144, 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ar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ndcard Chann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gital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llel 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uency Control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S,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S,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,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nt-End Software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 or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 or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itle 1"/>
          <p:cNvSpPr/>
          <p:nvPr/>
        </p:nvSpPr>
        <p:spPr>
          <a:xfrm>
            <a:off x="639720" y="6080040"/>
            <a:ext cx="796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L = Linrad,       S = SDR-Radio,      M = MAP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65: Why do you need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49360" y="1964880"/>
            <a:ext cx="813744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ndom EME on 144, 432, 129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no skeds or logg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perb wideband noise blan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 all EME signals in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itor CW as well as JT65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rtions of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werful EME contest operating 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| Options – Station 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508200" y="1252440"/>
            <a:ext cx="5286600" cy="5376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173160" y="1317600"/>
            <a:ext cx="2963880" cy="2019240"/>
          </a:xfrm>
          <a:prstGeom prst="rect">
            <a:avLst/>
          </a:prstGeom>
          <a:ln w="0">
            <a:noFill/>
          </a:ln>
        </p:spPr>
      </p:pic>
      <p:sp>
        <p:nvSpPr>
          <p:cNvPr id="14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P65:    What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5040" y="1965240"/>
            <a:ext cx="841392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R software, works with JT65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brother” to WS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x hardware converts RF to base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s all JT65 signals in 90 kHz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Pol: Automatic polarization ma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EME on 144, 432, 1296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| Options – I/O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1720800" y="1050840"/>
            <a:ext cx="5594400" cy="5732640"/>
          </a:xfrm>
          <a:prstGeom prst="rect">
            <a:avLst/>
          </a:prstGeom>
          <a:ln w="0">
            <a:noFill/>
          </a:ln>
        </p:spPr>
      </p:pic>
      <p:sp>
        <p:nvSpPr>
          <p:cNvPr id="14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ronomica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949480" y="1143000"/>
            <a:ext cx="2811600" cy="5608800"/>
          </a:xfrm>
          <a:prstGeom prst="rect">
            <a:avLst/>
          </a:prstGeom>
          <a:ln w="0">
            <a:noFill/>
          </a:ln>
        </p:spPr>
      </p:pic>
      <p:sp>
        <p:nvSpPr>
          <p:cNvPr id="15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ion Control at K1J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1122480"/>
            <a:ext cx="4989600" cy="5506920"/>
          </a:xfrm>
          <a:prstGeom prst="rect">
            <a:avLst/>
          </a:prstGeom>
          <a:ln w="0">
            <a:noFill/>
          </a:ln>
        </p:spPr>
      </p:pic>
      <p:sp>
        <p:nvSpPr>
          <p:cNvPr id="154" name="Title 1"/>
          <p:cNvSpPr/>
          <p:nvPr/>
        </p:nvSpPr>
        <p:spPr>
          <a:xfrm>
            <a:off x="5303880" y="1325520"/>
            <a:ext cx="3747960" cy="23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File azel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:01:28,211.3, 64.1,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:01:28, 98.3, 33.9,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44,   162,Dopp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15,0,fQ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5211720" y="3564000"/>
            <a:ext cx="3773520" cy="306540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Setup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195560" y="1662120"/>
            <a:ext cx="6752880" cy="4602240"/>
          </a:xfrm>
          <a:prstGeom prst="rect">
            <a:avLst/>
          </a:prstGeom>
          <a:ln w="0">
            <a:noFill/>
          </a:ln>
        </p:spPr>
      </p:pic>
      <p:sp>
        <p:nvSpPr>
          <p:cNvPr id="159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4680" y="274320"/>
            <a:ext cx="850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 Utility for FUNcube Do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2840" y="1874880"/>
            <a:ext cx="9034560" cy="411300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User’s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209520" y="1701720"/>
            <a:ext cx="8659800" cy="4745160"/>
          </a:xfrm>
          <a:prstGeom prst="rect">
            <a:avLst/>
          </a:prstGeom>
          <a:ln w="0">
            <a:noFill/>
          </a:ln>
        </p:spPr>
      </p:pic>
      <p:sp>
        <p:nvSpPr>
          <p:cNvPr id="165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432 and 1296 M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06200" y="1325520"/>
            <a:ext cx="740556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” EME b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maller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maller antennas are “enoug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 your own echoes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2:    4 x 6m yagis, 25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96:  3m dish, 150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65 is great for JT6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W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Xpol Yagis on 4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pol’n (RHC/LHC) on 12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ossible Future Modes?  </a:t>
            </a:r>
            <a:br>
              <a:rPr sz="5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JT65B2, JT65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549360" y="2239920"/>
            <a:ext cx="84121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× speed, for EME con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s T/R sequences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p to 20 QSO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 hour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nsitivity:  3 dB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ly available in WSJT (on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 problem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RM?    Sub-band plan?    Switching betwe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mo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JT65 Protoc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65240"/>
            <a:ext cx="83217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0 s T/R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ct, structured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ulation: 65-tone FSK, 2.7 b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C:  Reed-Solomon (63,12)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s a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 t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 dB below CW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 1000 EME users on 144 MHz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3644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ogram Compari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23516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 u="sng">
                <a:solidFill>
                  <a:srgbClr val="0066cc"/>
                </a:solidFill>
                <a:uFillTx/>
                <a:latin typeface="Arial"/>
              </a:rPr>
              <a:t>WSJ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BW 2-5 k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Many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Decodes one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sig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One polar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297320" y="1235160"/>
            <a:ext cx="4846680" cy="53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MAP6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W 90 k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T65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ecodes all signals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n pass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ll polarization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(avg 3 dB bet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utomatic Band 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"/>
          <p:cNvGrpSpPr/>
          <p:nvPr/>
        </p:nvGrpSpPr>
        <p:grpSpPr>
          <a:xfrm>
            <a:off x="365040" y="46080"/>
            <a:ext cx="8278920" cy="6534000"/>
            <a:chOff x="365040" y="46080"/>
            <a:chExt cx="8278920" cy="6534000"/>
          </a:xfrm>
        </p:grpSpPr>
        <p:sp>
          <p:nvSpPr>
            <p:cNvPr id="63" name="Isosceles Triangle 7"/>
            <p:cNvSpPr/>
            <p:nvPr/>
          </p:nvSpPr>
          <p:spPr>
            <a:xfrm rot="10800000">
              <a:off x="3355920" y="600840"/>
              <a:ext cx="836640" cy="67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Isosceles Triangle 8"/>
            <p:cNvSpPr/>
            <p:nvPr/>
          </p:nvSpPr>
          <p:spPr>
            <a:xfrm rot="10800000">
              <a:off x="3355560" y="1701360"/>
              <a:ext cx="834840" cy="67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9"/>
            <p:cNvSpPr/>
            <p:nvPr/>
          </p:nvSpPr>
          <p:spPr>
            <a:xfrm>
              <a:off x="3779640" y="601560"/>
              <a:ext cx="0" cy="11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Isosceles Triangle 10"/>
            <p:cNvSpPr/>
            <p:nvPr/>
          </p:nvSpPr>
          <p:spPr>
            <a:xfrm rot="10800000">
              <a:off x="4883040" y="612000"/>
              <a:ext cx="836640" cy="67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Isosceles Triangle 11"/>
            <p:cNvSpPr/>
            <p:nvPr/>
          </p:nvSpPr>
          <p:spPr>
            <a:xfrm rot="10800000">
              <a:off x="4883040" y="1712520"/>
              <a:ext cx="836640" cy="671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12"/>
            <p:cNvSpPr/>
            <p:nvPr/>
          </p:nvSpPr>
          <p:spPr>
            <a:xfrm>
              <a:off x="5307120" y="612720"/>
              <a:ext cx="0" cy="1100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ounded Rectangle 13"/>
            <p:cNvSpPr/>
            <p:nvPr/>
          </p:nvSpPr>
          <p:spPr>
            <a:xfrm>
              <a:off x="3151080" y="2557440"/>
              <a:ext cx="2732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F to Baseb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Straight Connector 14"/>
            <p:cNvSpPr/>
            <p:nvPr/>
          </p:nvSpPr>
          <p:spPr>
            <a:xfrm>
              <a:off x="3779640" y="2368440"/>
              <a:ext cx="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15"/>
            <p:cNvSpPr/>
            <p:nvPr/>
          </p:nvSpPr>
          <p:spPr>
            <a:xfrm>
              <a:off x="5307120" y="2379600"/>
              <a:ext cx="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3486240" y="46080"/>
              <a:ext cx="525240" cy="444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ounded Rectangle 17"/>
            <p:cNvSpPr/>
            <p:nvPr/>
          </p:nvSpPr>
          <p:spPr>
            <a:xfrm>
              <a:off x="3151080" y="3568680"/>
              <a:ext cx="2732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inrad,  SDR-Rad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optional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ounded Rectangle 18"/>
            <p:cNvSpPr/>
            <p:nvPr/>
          </p:nvSpPr>
          <p:spPr>
            <a:xfrm>
              <a:off x="3124080" y="4579920"/>
              <a:ext cx="273204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MAP6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19"/>
            <p:cNvSpPr/>
            <p:nvPr/>
          </p:nvSpPr>
          <p:spPr>
            <a:xfrm>
              <a:off x="365040" y="3424320"/>
              <a:ext cx="245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0"/>
            <p:cNvSpPr/>
            <p:nvPr/>
          </p:nvSpPr>
          <p:spPr>
            <a:xfrm>
              <a:off x="365040" y="2475000"/>
              <a:ext cx="2181240" cy="604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21"/>
            <p:cNvSpPr/>
            <p:nvPr/>
          </p:nvSpPr>
          <p:spPr>
            <a:xfrm>
              <a:off x="365040" y="3746520"/>
              <a:ext cx="210960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ftwa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traight Connector 23"/>
            <p:cNvSpPr/>
            <p:nvPr/>
          </p:nvSpPr>
          <p:spPr>
            <a:xfrm>
              <a:off x="4471920" y="4280040"/>
              <a:ext cx="0" cy="311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ounded Rectangle 24"/>
            <p:cNvSpPr/>
            <p:nvPr/>
          </p:nvSpPr>
          <p:spPr>
            <a:xfrm>
              <a:off x="365040" y="5857920"/>
              <a:ext cx="148896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W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ounded Rectangle 25"/>
            <p:cNvSpPr/>
            <p:nvPr/>
          </p:nvSpPr>
          <p:spPr>
            <a:xfrm>
              <a:off x="7155000" y="5869080"/>
              <a:ext cx="148896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Messag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ounded Rectangle 26"/>
            <p:cNvSpPr/>
            <p:nvPr/>
          </p:nvSpPr>
          <p:spPr>
            <a:xfrm>
              <a:off x="2058840" y="5857920"/>
              <a:ext cx="148896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Ast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ounded Rectangle 27"/>
            <p:cNvSpPr/>
            <p:nvPr/>
          </p:nvSpPr>
          <p:spPr>
            <a:xfrm>
              <a:off x="3754440" y="5869080"/>
              <a:ext cx="148752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ounded Rectangle 28"/>
            <p:cNvSpPr/>
            <p:nvPr/>
          </p:nvSpPr>
          <p:spPr>
            <a:xfrm>
              <a:off x="5448240" y="5869080"/>
              <a:ext cx="1488960" cy="711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Band Ma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29"/>
            <p:cNvSpPr/>
            <p:nvPr/>
          </p:nvSpPr>
          <p:spPr>
            <a:xfrm flipV="1">
              <a:off x="1083960" y="5291280"/>
              <a:ext cx="252900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traight Connector 30"/>
            <p:cNvSpPr/>
            <p:nvPr/>
          </p:nvSpPr>
          <p:spPr>
            <a:xfrm flipV="1">
              <a:off x="2815920" y="5290920"/>
              <a:ext cx="120780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traight Connector 31"/>
            <p:cNvSpPr/>
            <p:nvPr/>
          </p:nvSpPr>
          <p:spPr>
            <a:xfrm flipV="1">
              <a:off x="4471920" y="5290920"/>
              <a:ext cx="0" cy="564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32"/>
            <p:cNvSpPr/>
            <p:nvPr/>
          </p:nvSpPr>
          <p:spPr>
            <a:xfrm flipH="1" flipV="1">
              <a:off x="5203800" y="5291280"/>
              <a:ext cx="100152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traight Connector 33"/>
            <p:cNvSpPr/>
            <p:nvPr/>
          </p:nvSpPr>
          <p:spPr>
            <a:xfrm flipH="1" flipV="1">
              <a:off x="5537160" y="5291280"/>
              <a:ext cx="2362320" cy="566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Straight Connector 39"/>
          <p:cNvSpPr/>
          <p:nvPr/>
        </p:nvSpPr>
        <p:spPr>
          <a:xfrm>
            <a:off x="4479840" y="3278160"/>
            <a:ext cx="0" cy="266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0"/>
          <p:cNvSpPr/>
          <p:nvPr/>
        </p:nvSpPr>
        <p:spPr>
          <a:xfrm>
            <a:off x="5121360" y="100080"/>
            <a:ext cx="388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680" y="136440"/>
            <a:ext cx="8594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MAP65: Version 2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47560" y="1417320"/>
            <a:ext cx="83217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X-pol and Single-po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modes JT65A, B, and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rate: 96000 or 95238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al front-ends: Linrad, SDR-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x hardware: WSE converters, IQ+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eus, SDR-IQ, FUNcube Dongle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Rock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tSDK, C++ for GUI; Fortran for 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, OS X, Linux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0" y="1496880"/>
            <a:ext cx="4116240" cy="2754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189000" y="4564080"/>
            <a:ext cx="3927240" cy="204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4297320" y="4800600"/>
            <a:ext cx="4719600" cy="1757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"/>
          <p:cNvPicPr/>
          <p:nvPr/>
        </p:nvPicPr>
        <p:blipFill>
          <a:blip r:embed="rId4"/>
          <a:stretch/>
        </p:blipFill>
        <p:spPr>
          <a:xfrm>
            <a:off x="4846680" y="228600"/>
            <a:ext cx="3579840" cy="2212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"/>
          <p:cNvPicPr/>
          <p:nvPr/>
        </p:nvPicPr>
        <p:blipFill>
          <a:blip r:embed="rId5"/>
          <a:stretch/>
        </p:blipFill>
        <p:spPr>
          <a:xfrm>
            <a:off x="4454640" y="2971800"/>
            <a:ext cx="4324320" cy="1571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39360" y="136080"/>
            <a:ext cx="292572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e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R-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66680" y="1325520"/>
            <a:ext cx="8794800" cy="530388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ormal Operation at K1J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m EM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3680" y="1874520"/>
            <a:ext cx="79549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rn on Rx, warm up 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rt Linrad and MAP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track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signs start to appear on sc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ble-click on a CQing call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 Tx polarization (H or 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“Auto On” to call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4:30:49Z</dcterms:created>
  <dc:creator>jtaylor</dc:creator>
  <dc:description/>
  <dc:language>en-US</dc:language>
  <cp:lastModifiedBy>Joseph H. Taylor</cp:lastModifiedBy>
  <cp:lastPrinted>2012-08-10T15:02:14Z</cp:lastPrinted>
  <dcterms:modified xsi:type="dcterms:W3CDTF">2012-09-28T16:48:30Z</dcterms:modified>
  <cp:revision>68</cp:revision>
  <dc:subject/>
  <dc:title>MAP65 21st Century EME</dc:title>
</cp:coreProperties>
</file>