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3.png" ContentType="image/png"/>
  <Override PartName="/ppt/media/image12.wmf" ContentType="image/x-wmf"/>
  <Override PartName="/ppt/media/image4.png" ContentType="image/png"/>
  <Override PartName="/ppt/media/image9.png" ContentType="image/png"/>
  <Override PartName="/ppt/media/image17.wmf" ContentType="image/x-wmf"/>
  <Override PartName="/ppt/media/image11.png" ContentType="image/png"/>
  <Override PartName="/ppt/media/image7.jpeg" ContentType="image/jpe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8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7CD5-D9CD-4DB9-B4AF-188A2C99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12E3-D08C-4DD0-A801-ABB9534D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3B4ED-A44E-473E-9B07-8EBE8473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ECC8E-E7B9-4A31-98A2-A545D6C4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2310A-1008-4AB2-8BC7-54EB7A98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0BB3D-F352-4857-9D55-9E315DAB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98C1D-4D46-4AA9-B6D7-774E164C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3B183-E252-4959-BDE2-AAC91926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6624C-5C21-42E7-9DE7-12108E19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D9F65-8C2E-4AE3-A735-1CADD244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02973-0EDA-459E-86C3-02A94A42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29DD4-ADB1-49C5-A2D9-DDD80F40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379A-2D80-4B86-B5AE-354B8C27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6D280-4017-4679-BDD5-877583C7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900B7-3ACA-4C67-841D-22027DFE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96A26-187D-4D79-876F-E1FDE596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5E6F8-092A-4933-808B-43962AF4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7CA1E-7D29-4839-A6F4-33BB722A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3B110-D9A8-4BD3-B799-172872A2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283C5-ADD7-48DB-9EEB-2124BA72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302B5-507E-4864-9C6F-253C878C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6BD0D-505A-4D8E-B62D-27567583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4B150-B094-49D4-931F-0624181A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521D-EBD5-427C-A5AC-57819BA2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3D90C-BFE3-46F3-A629-192F69EF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C4B05-B041-472C-A049-EF6EEFE8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E88EA-6FF8-4F8E-8999-880815EF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11628-0DDB-4E0D-B922-94D43C71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E3CE3-FED5-4FB5-814A-2EA4C113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AA4F3-278A-403C-B83C-8F1E2695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63291-1772-46C9-9829-DE2939B5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7C40F-5DCE-44CB-B7D6-8E6EB953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4BC37-9F5A-4577-8609-67F82780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AE9C1-CB97-48B5-B766-2C3079E9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9D3B-DA4B-48E6-A161-6F9F7A1D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CBC52-4E48-4DCD-9746-CD749C88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61C0B-9791-42AB-8FD8-0644D135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4DA65-78E4-4529-8F34-9ABE3631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28CF9-DADE-4FDA-A710-1E468191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5C162-76FC-418B-B52A-C48A38E4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70F29-D5AE-4687-8665-6C03DA5C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201B2-BDC9-4CC6-8567-D1EF67D4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09F25-3C42-4CF4-9F28-3C4AAD62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CA6E1-8AB3-49C7-88AD-A7F64371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B0E0D4-FD5B-4F18-B62B-6CBCED68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6BE8-0C12-44E2-B54B-649BEA66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112C0-B8CB-4697-A74A-2AAE7E42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3E706-7F50-4FDB-9F34-2B833FCE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4C8CA-3A25-47CF-B45D-FDF41A12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9EDEF-4AEA-4F48-9F31-2B4AF5E6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E96C7-AD74-4FE5-895A-58EE4BD1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5A2A8F-A2FC-44F7-AD7B-4063D7DD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3DF708-8B0D-4AAB-BB0A-494CC612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551CE0-7B6E-4AEA-A6A8-DFF8CE3E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DFEFA7-6C92-430B-BA42-1A969578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EF8E8B-D148-46B3-BDA6-2DBD33DC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82D0-59F9-4DA6-AE1E-3F1F82B0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9F6BCD-A514-4ECA-90A4-4BDE2357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E1F12F-6208-47C6-BC20-AC4C9FE3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0C11F0-9590-43B4-8686-A17702B7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3462B3-A76A-44C7-A566-9A6F5AAA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1C0EA1-852B-45C6-B75F-E31BD633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25BFC7-1D24-4A56-B445-AA4D7901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E27B7-EF3E-48A1-8689-B60A53F3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A3D6FC-54FC-401E-A0DD-6B0CE1AB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5ACC10-D3FC-422C-B6F8-7CAE1F2F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867482-C5D6-4B0B-BC77-4AAFA49C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D802-8B99-4E2F-9798-4343F601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E93989-8250-48A3-BA94-6FFB80E3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2C14C8-C1BC-4177-B2F3-C7BCC57F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761071-3D6F-426A-B90A-25AE3D2F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DF98B9-5215-489C-84A6-1A47F1D5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93F846-5B77-4F35-BBA1-75F91086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C501EF-CEFB-4285-8604-2CA0FDCB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9CE56D-ADA0-4565-9155-E916C5C6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710A65-3F0C-4DAC-BFA6-97370ED0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0205C0-2AA5-48BF-82FC-8CF85055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23F20C-6142-42AA-A7C8-199F39CA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3713-014E-4ED3-B878-8286B33A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2B84D1-927A-4A83-B2C0-4E753BAA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A62BF8-5DE4-4740-B439-CEF6459F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B95585-83B2-497D-9DA5-088CF3A7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1AD5C6-0035-4311-AB17-55D16491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EC77E2-A044-4FCF-8D71-E8E28201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5BD762-3A94-4869-A947-47A815F9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1622CF-807C-4D65-B033-A3E9DF8B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CC27F7-D1BF-4496-9257-AD2460A0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DBABB5-CE38-492D-BA56-1256DE98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4CA974-21F5-4B1D-8929-B4EA26E9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1F56-A966-4DAC-BA6A-7ABAF242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242C4A-7D9F-49DC-8011-444C7F2C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0C9E-454F-4587-9174-7A4BA229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DDAB-E43D-4E54-91C1-AE373EB9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F4D1-D508-4100-830D-6071ED1D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81FB-4FAA-4EB3-8C75-C63F24E5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E93A-D54D-4AD0-90CA-04BB9013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FB85-873A-4C22-B568-D9C7417A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25BF-7624-4946-A54E-D2951D97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EE3B8-D19C-4FD9-967F-2193BBA8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7CABD-4F05-4B14-940B-299AADB0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8C383-7C22-4044-9BF8-7480FF88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6AC00-4C5C-4E61-AC46-A0A1E4D8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B677A-0450-4317-81A7-C51C1D0C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B0B3-E29B-4493-A9C6-BB9D083B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4D717-387C-4BB7-AE77-7839BFB6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ABA58-92FD-426C-B5F4-03244C35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7B1D5-DAB8-49BC-8C2D-047687B5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FC74B-A5A7-418E-9E3F-06780353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C733C-BD21-439D-8FCD-C3157CF9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E0A7A-B479-4DC2-9DB5-7B8FB2B0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39958-EE3C-43D3-8D4F-20E77D8A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AB312-D137-4B89-854E-9702FA4C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A114E-8EA0-4009-A865-B05EC3B6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06085-2962-4E77-B8B8-BFB08E2A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1F07-F63B-48E7-90E5-F173BBF0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A38D5-587F-439A-8D1D-1352089C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926BD-9D1A-45A0-86E9-1DAE9868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39123-462A-4360-9AA5-60733FA4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0F641-78F3-4A6F-9BFE-A3E88BDC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DE76C-8B5B-4176-9EFE-FC24CC56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84448-DE2F-427A-B67D-C8864BEF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5E8D7-54FE-41AB-8933-7AF1E336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0866C-6D9C-450A-AFB6-5607E176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BB337-7542-41FF-8EC2-7B7D1B94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AA81E-568E-4572-B7E6-11D59193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FAFB-3110-4A6A-9120-18D4B418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8F343-6921-464D-AC29-8CEB39FD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3D072-4073-4402-9CFA-1368FF80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A0828-DCA4-4F47-890F-8F6F5C4A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1A1DC-7DDC-431D-AFCF-DFD96FC3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576C3-5306-483F-8310-B417335C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F8C06-1FE5-4CD5-AADC-F1DAC015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34CC8-B054-4B4D-9A69-62B84D5F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5C127-6104-4A82-914A-72BDC780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E2B0F-9982-468E-8CAC-121E98FA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3B983-387E-4587-8A52-D01C92A5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1C19-58C6-43A1-A049-624C119D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D9559-35F2-41AB-8415-025D11F8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A2EDC-0546-415D-900F-A3562258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7802F-BA85-4215-A44E-54780ACE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A04D9-0392-43AC-ACB1-1D80121A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81899-4290-4282-A590-3F1E082A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1B557-7416-44E6-AC30-D26E12A5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164AF-9D02-4E06-BBAF-46B2282E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203E4-6818-4855-85E6-FDFBC462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977EA-AAB5-41D6-8EEF-5664B993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484AD-740A-4439-9D97-1A51C1DA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9BF1-CA1A-43CF-BD1F-127C242B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F4F2D-F22E-4C23-B324-60692661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EB97F-0BE8-4B89-8016-11D32D5E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19FBC-9E50-40EB-9C07-EC809E3F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6C3CE-BCCB-47F9-863C-2861B599F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9E2D1-EC4A-4BDE-852B-1DF866CD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F083F-5323-4275-9569-1FE9CF09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A6ADD-E45C-4EF1-A800-C146C548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1C1C5-498C-42C8-A209-2CD70E56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75515-8AFD-432D-AE48-2324524D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DAC5F-095F-4B73-AA4F-9A515A3B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0031-1FD3-4908-BE56-35290EB0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77C44-870C-44C5-9941-F398B7CE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19AAE-59B8-4E6B-86A9-BC7F8BA3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1910E-89CD-4D33-AD5E-A9EBE632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EC92E-6110-4AE2-9376-9281F295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88F0F-D2A9-4BC4-A0E4-825CB95B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A210A-4319-4404-B469-346DD5D5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3430E-AB0C-4D1D-9632-4E384FA9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8B35D-96E5-4E6B-A221-711CDCA3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EA287-5ECD-4125-AC63-10C32CC3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07C69-9DA9-4B93-BEB3-C34F4152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5014-8E3A-47B0-80F4-19366FB1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5F488-A314-4D23-A190-34890BFD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36B33-00E0-406D-A0F1-E0E7F315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3BE67-9DEC-4DCF-B688-93ABFD91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2BF26-39D7-41FE-9B50-7DD14000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83189-F2F5-49B0-8256-E1A611B2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B235C-68B1-4F39-B790-7C29DBF1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CE4DC-D584-462D-95E9-37D6FCD0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1EF3C-2EBD-41BF-8428-A909C354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94767-44A2-4700-A263-A6721B11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EA0E0-AF72-4054-9338-BAAFD77E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240" y="762120"/>
            <a:ext cx="7085160" cy="6862680"/>
            <a:chOff x="-291240" y="762120"/>
            <a:chExt cx="7085160" cy="6862680"/>
          </a:xfrm>
        </p:grpSpPr>
        <p:grpSp>
          <p:nvGrpSpPr>
            <p:cNvPr id="1" name="Group 3"/>
            <p:cNvGrpSpPr/>
            <p:nvPr/>
          </p:nvGrpSpPr>
          <p:grpSpPr>
            <a:xfrm>
              <a:off x="-291240" y="762120"/>
              <a:ext cx="7085160" cy="6862680"/>
              <a:chOff x="-291240" y="762120"/>
              <a:chExt cx="7085160" cy="686268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240" y="762120"/>
                <a:ext cx="7085160" cy="6862680"/>
                <a:chOff x="-291240" y="762120"/>
                <a:chExt cx="7085160" cy="686268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240" y="762120"/>
                  <a:ext cx="7085160" cy="6862680"/>
                  <a:chOff x="-291240" y="762120"/>
                  <a:chExt cx="7085160" cy="686268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240" y="762120"/>
                    <a:ext cx="7085160" cy="6862680"/>
                    <a:chOff x="-291240" y="762120"/>
                    <a:chExt cx="7085160" cy="686268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240" y="769320"/>
                      <a:ext cx="7075440" cy="6855480"/>
                      <a:chOff x="-291240" y="769320"/>
                      <a:chExt cx="7075440" cy="685548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240" y="769320"/>
                        <a:ext cx="7075440" cy="6855480"/>
                        <a:chOff x="-291240" y="769320"/>
                        <a:chExt cx="7075440" cy="685548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240" y="1247400"/>
                          <a:ext cx="6462720" cy="6377400"/>
                          <a:chOff x="-291240" y="1247400"/>
                          <a:chExt cx="6462720" cy="637740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384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77440" y="429696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58280" y="399996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66120" y="374112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65320" y="342468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76400" y="317052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49320" y="289188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4120" y="262728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599840" y="2369160"/>
                            <a:ext cx="2481480" cy="42793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5800" y="208476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3640" y="181692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640" y="152136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2080" y="428184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7E49-2A33-4C23-9142-CC5BA6A892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EE63-D84D-4A12-ABEB-E036AB3C55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6E21-B59C-491B-B354-EC1A9456A3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1111-A506-41BD-A940-80674B4D86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B8D8-B2EC-4EC8-A688-3314084E5E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6903-FB6B-417C-B0F8-6BA1DCF8C5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4043-A6B9-4676-9AE3-6091D991D9D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000" y="798480"/>
            <a:ext cx="7085160" cy="6862680"/>
            <a:chOff x="-315000" y="798480"/>
            <a:chExt cx="7085160" cy="686268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000" y="798480"/>
              <a:ext cx="7085160" cy="6862680"/>
              <a:chOff x="-315000" y="798480"/>
              <a:chExt cx="7085160" cy="686268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000" y="798480"/>
                <a:ext cx="7085160" cy="6862680"/>
                <a:chOff x="-315000" y="798480"/>
                <a:chExt cx="7085160" cy="686268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000" y="798480"/>
                  <a:ext cx="7085160" cy="6862680"/>
                  <a:chOff x="-315000" y="798480"/>
                  <a:chExt cx="7085160" cy="686268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000" y="798480"/>
                    <a:ext cx="7085160" cy="6862680"/>
                    <a:chOff x="-315000" y="798480"/>
                    <a:chExt cx="7085160" cy="686268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Group 166"/>
                    <p:cNvGrpSpPr/>
                    <p:nvPr/>
                  </p:nvGrpSpPr>
                  <p:grpSpPr>
                    <a:xfrm>
                      <a:off x="-315000" y="805680"/>
                      <a:ext cx="7075440" cy="6855480"/>
                      <a:chOff x="-315000" y="805680"/>
                      <a:chExt cx="7075440" cy="685548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000" y="805680"/>
                        <a:ext cx="7075440" cy="6855480"/>
                        <a:chOff x="-315000" y="805680"/>
                        <a:chExt cx="7075440" cy="685548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000" y="1283760"/>
                          <a:ext cx="6462720" cy="6377400"/>
                          <a:chOff x="-315000" y="1283760"/>
                          <a:chExt cx="6462720" cy="637740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400" y="4522320"/>
                            <a:ext cx="255600" cy="44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3680" y="433332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4520" y="403632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2360" y="377748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3360" y="346140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2640" y="320688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360" y="292824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0360" y="266364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6080" y="2405520"/>
                            <a:ext cx="2481480" cy="42793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348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79880" y="185328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880" y="155772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44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70360" y="2360160"/>
                  <a:ext cx="314640" cy="18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69000" y="2257560"/>
                  <a:ext cx="254880" cy="24768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53600" y="2246400"/>
                  <a:ext cx="182520" cy="17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5018040" y="2142720"/>
                  <a:ext cx="226800" cy="22068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399C-F802-462C-8BEE-31934227B5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4820-CE79-41BE-8298-A7C6A14C88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F3A1-F93A-4C08-9207-8D4338C96FF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0FA0-45E4-4883-845D-6117BDBD860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BCAA-F039-45F4-89AE-E7678A07DE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3E59-1FA1-4DB4-82B8-32BE89B8DE7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D8A8-262B-4382-B3C3-F6E1F4C7289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3D9D-3EF2-485A-92A4-31652EDD27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7e7dd"/>
                </a:solidFill>
                <a:latin typeface="Arial"/>
              </a:rPr>
              <a:t>Make More Miles with Your Mixers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3b34"/>
                </a:solidFill>
                <a:latin typeface="Verdana"/>
              </a:rPr>
              <a:t>Brian Justin, WA1Z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a3b34"/>
                </a:solidFill>
                <a:latin typeface="Verdana"/>
              </a:rPr>
              <a:t>f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3b34"/>
                </a:solidFill>
                <a:latin typeface="Verdana"/>
              </a:rPr>
              <a:t>Microwave Update 201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Hughes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893" name="Picture 3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6483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Diode mode for mixer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aris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riable resistor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resistance is non-linear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ward bias c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od for mix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nk of motor driven potentiome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gnal is current flowing in pot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d LO drive is “spinning the knob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e: The LO modulates the RF/I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LO Drive Power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key to a good mixer is LO dr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ed to be able to pump or swing the diode across its full V-I cur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Rectangle 10"/>
          <p:cNvSpPr/>
          <p:nvPr/>
        </p:nvSpPr>
        <p:spPr>
          <a:xfrm>
            <a:off x="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9" name="Object 12"/>
          <p:cNvGraphicFramePr/>
          <p:nvPr/>
        </p:nvGraphicFramePr>
        <p:xfrm>
          <a:off x="3048120" y="4495680"/>
          <a:ext cx="269532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4495680"/>
                    <a:ext cx="269532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etting LO Drive to the Diode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LO power is “cheap”, just run it up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B6NT PCB for &gt;100GH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3" name="Picture 4" descr=""/>
          <p:cNvPicPr/>
          <p:nvPr/>
        </p:nvPicPr>
        <p:blipFill>
          <a:blip r:embed="rId1"/>
          <a:stretch/>
        </p:blipFill>
        <p:spPr>
          <a:xfrm>
            <a:off x="2543040" y="3809880"/>
            <a:ext cx="33339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Simple Mixer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905" name="Object 5"/>
          <p:cNvGraphicFramePr/>
          <p:nvPr/>
        </p:nvGraphicFramePr>
        <p:xfrm>
          <a:off x="990720" y="2362320"/>
          <a:ext cx="7315200" cy="22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362320"/>
                    <a:ext cx="731520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Adding DC bias to diode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908" name="Object 15"/>
          <p:cNvGraphicFramePr/>
          <p:nvPr/>
        </p:nvGraphicFramePr>
        <p:xfrm>
          <a:off x="838080" y="1066680"/>
          <a:ext cx="754380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5438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We’ve also just created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80880" y="44953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simple mix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st consider DC conditions of the dio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RF impedances must be matched for best perform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12" name="Object 6"/>
          <p:cNvGraphicFramePr/>
          <p:nvPr/>
        </p:nvGraphicFramePr>
        <p:xfrm>
          <a:off x="762120" y="1384200"/>
          <a:ext cx="7162560" cy="311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84200"/>
                    <a:ext cx="7162560" cy="31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What does DC bias “buy us”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provides us a chance to select the operating point of a given dio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ward bias reduces need for large LO sign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 low LO drive (even with bias) makes conversion loss higher than with high LO driv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ter than nothing though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mulation can show us that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6" descr="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709632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0292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ircuit Simulation~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Picture 946" descr="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709632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-152280" y="-152280"/>
            <a:ext cx="54100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ircuit Simulation~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is talk will cover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basics of diode-based mm-wave mix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view of the basic diode as a non-linear dev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ristor mode of diode ope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ode circuit topolog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Single dio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921" name="Object 4"/>
          <p:cNvGraphicFramePr/>
          <p:nvPr/>
        </p:nvGraphicFramePr>
        <p:xfrm>
          <a:off x="985680" y="1600200"/>
          <a:ext cx="717264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1600200"/>
                    <a:ext cx="717264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od for general purpose mixer/mul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be broadb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or conversion loss (30</a:t>
            </a:r>
            <a:r>
              <a:rPr b="0" lang="en-US" sz="2400" spc="-1" strike="noStrike" baseline="5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B)…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n&gt;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Series dio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925" name="Object 4"/>
          <p:cNvGraphicFramePr/>
          <p:nvPr/>
        </p:nvGraphicFramePr>
        <p:xfrm>
          <a:off x="914400" y="1371600"/>
          <a:ext cx="723744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23744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milar case as with single dio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take more drive pow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st for higher power TX mixer u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times used within the following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Anti-parallel dio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times called back-to-back pai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cellent for power tripler desig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C bias protec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 poor as mixer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30" name="Object 5"/>
          <p:cNvGraphicFramePr/>
          <p:nvPr/>
        </p:nvGraphicFramePr>
        <p:xfrm>
          <a:off x="457200" y="1606680"/>
          <a:ext cx="8229600" cy="21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6680"/>
                    <a:ext cx="8229600" cy="21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Anti-series dio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33520" y="3885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eat for x3 harmonic mix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fficult to implement balun for LO dr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34" name="Object 5"/>
          <p:cNvGraphicFramePr/>
          <p:nvPr/>
        </p:nvGraphicFramePr>
        <p:xfrm>
          <a:off x="457200" y="1657440"/>
          <a:ext cx="822960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57440"/>
                    <a:ext cx="822960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Example of WG balun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937" name="Picture 2" descr="F:\Brian\W0EOM Mixers\1.bmp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939" name="Object 7"/>
          <p:cNvGraphicFramePr/>
          <p:nvPr/>
        </p:nvGraphicFramePr>
        <p:xfrm>
          <a:off x="5181480" y="1523880"/>
          <a:ext cx="882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523880"/>
                    <a:ext cx="882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380880" y="33523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viewed non-linear behavior of diod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w how drive power &amp; bias are importa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viewed common topolog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uestion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42" name="Object 8"/>
          <p:cNvGraphicFramePr/>
          <p:nvPr/>
        </p:nvGraphicFramePr>
        <p:xfrm>
          <a:off x="7238880" y="1371600"/>
          <a:ext cx="939960" cy="11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1371600"/>
                    <a:ext cx="93996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4" name="Object 10"/>
          <p:cNvGraphicFramePr/>
          <p:nvPr/>
        </p:nvGraphicFramePr>
        <p:xfrm>
          <a:off x="1181160" y="1447920"/>
          <a:ext cx="1028520" cy="9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1160" y="1447920"/>
                    <a:ext cx="102852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6" name="Object 11"/>
          <p:cNvGraphicFramePr/>
          <p:nvPr/>
        </p:nvGraphicFramePr>
        <p:xfrm>
          <a:off x="3313080" y="1371600"/>
          <a:ext cx="344520" cy="111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13080" y="1371600"/>
                    <a:ext cx="34452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e Mixer as The Front End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 bands above 76GHz, mixers as the front-end of RX or last stage of TX are still comm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cellent designs by DB6NT &amp; DL2AM, and others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mple, easy, and yet very small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ce to pay is high conversion loss AND a poor noise figur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e basic diode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istors are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line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odes are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non-line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is this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non-linea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behavior that is used to create harmonics or mix sign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871" name="Object 11"/>
          <p:cNvGraphicFramePr/>
          <p:nvPr/>
        </p:nvGraphicFramePr>
        <p:xfrm>
          <a:off x="5326200" y="1600200"/>
          <a:ext cx="268272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26200" y="1600200"/>
                    <a:ext cx="268272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3" name="Object 12"/>
          <p:cNvGraphicFramePr/>
          <p:nvPr/>
        </p:nvGraphicFramePr>
        <p:xfrm>
          <a:off x="5319720" y="3941640"/>
          <a:ext cx="2695680" cy="21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19720" y="3941640"/>
                    <a:ext cx="269568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Diodes are not so simple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876" name="Object 4"/>
          <p:cNvGraphicFramePr/>
          <p:nvPr/>
        </p:nvGraphicFramePr>
        <p:xfrm>
          <a:off x="1866960" y="1600200"/>
          <a:ext cx="541008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1600200"/>
                    <a:ext cx="541008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rasitics can limit diode RF performance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mm-waves, packaging is a real issu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&amp;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ust be well understood for top-notch perform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Unique diodes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m-wave diodes are very challeng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ckages include raw die, beam-lead, and flip-chips for the &gt;50GHz frequency ran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odes may only be a few hundred microns on a s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unction capacitance is measured in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f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Diode pictures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882" name="Picture 2" descr=""/>
          <p:cNvPicPr/>
          <p:nvPr/>
        </p:nvPicPr>
        <p:blipFill>
          <a:blip r:embed="rId1"/>
          <a:stretch/>
        </p:blipFill>
        <p:spPr>
          <a:xfrm>
            <a:off x="3581280" y="1828800"/>
            <a:ext cx="933480" cy="190512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3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1428840" cy="157140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4" descr=""/>
          <p:cNvPicPr/>
          <p:nvPr/>
        </p:nvPicPr>
        <p:blipFill>
          <a:blip r:embed="rId3"/>
          <a:stretch/>
        </p:blipFill>
        <p:spPr>
          <a:xfrm>
            <a:off x="6019920" y="4343400"/>
            <a:ext cx="2324160" cy="218772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6" descr="E:\jlh justin diode pics\thz row c.jpg"/>
          <p:cNvPicPr/>
          <p:nvPr/>
        </p:nvPicPr>
        <p:blipFill>
          <a:blip r:embed="rId4"/>
          <a:stretch/>
        </p:blipFill>
        <p:spPr>
          <a:xfrm>
            <a:off x="5867280" y="1752480"/>
            <a:ext cx="2225880" cy="166860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7" descr="E:\jlh justin diode pics\thz row a side.jpg"/>
          <p:cNvPicPr/>
          <p:nvPr/>
        </p:nvPicPr>
        <p:blipFill>
          <a:blip r:embed="rId5"/>
          <a:stretch/>
        </p:blipFill>
        <p:spPr>
          <a:xfrm>
            <a:off x="762120" y="4343400"/>
            <a:ext cx="26827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ommercial Mixer Block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888" name="Picture 2" descr="F:\Brian\W0EOM Mixers\1.bmp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bb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Another mixer…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890" name="Picture 2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3333600" cy="275256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4" descr=""/>
          <p:cNvPicPr/>
          <p:nvPr/>
        </p:nvPicPr>
        <p:blipFill>
          <a:blip r:embed="rId2"/>
          <a:stretch/>
        </p:blipFill>
        <p:spPr>
          <a:xfrm>
            <a:off x="5105520" y="3581280"/>
            <a:ext cx="326232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16:38:04Z</dcterms:created>
  <dc:creator>Administrator</dc:creator>
  <dc:description/>
  <dc:language>en-US</dc:language>
  <cp:lastModifiedBy>b</cp:lastModifiedBy>
  <dcterms:modified xsi:type="dcterms:W3CDTF">2011-09-26T15:33:10Z</dcterms:modified>
  <cp:revision>67</cp:revision>
  <dc:subject/>
  <dc:title>A Primer on mm-Wave Multipliers and Mixers</dc:title>
</cp:coreProperties>
</file>