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B18-278A-4A96-ABFD-064134E1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D32-6C00-4FAB-9C12-ACB35D53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478C-1193-4C9A-945F-5486A1A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F1880-DE17-4CAB-B08B-DFAA74B8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D2C2B-1DBA-4904-96B6-124AA15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D27B3-CBE9-40B9-8E2F-70B98F1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2023D-7091-46E5-9131-9E86D87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0C6A1-979B-4F2F-ADD2-5149391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8D5D8-EBD9-4F98-95AB-A68C6C99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FAEEB-184B-46A1-AF52-DA3BA85F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37F21-736E-4E24-B089-BF0CCBED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525FC-2A55-439E-A352-59347C4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ECD-BA9E-4C85-BB55-D40323FB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28E61-3562-4DBF-8F64-333583C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A5A9-2E2A-4435-A59B-32428913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FB007-A7FB-4A17-8253-F047C9A7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374F4-C156-4081-A4B4-E0E9A70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608C2-C46A-45A4-B888-3DCA6A5C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066E3-E935-4592-AF96-15458BE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ABCCD-1977-4CFE-AE18-C31DFD2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2F773-CA3F-4DA0-93A3-B14298B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A28D5-B993-4F03-AEB6-71B9DAF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D6FE9-2DF7-43F5-AA50-B3AC5218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D99-7962-4519-B642-318B69B6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9F5AB-FEA6-487A-8E73-4E40A09C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12B24-02AD-4DDC-8777-7FB03828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E7D4A-84A3-4CF5-A3F1-C3F69251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30F66-842F-480C-AE75-FC32AA58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62D6D-2D79-43EB-87F8-E332B2B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E55CF-C0E3-453F-8E3B-EEEAF29A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29FC9-1690-419A-A93D-79D4D0C7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A7E43-6B5A-4A0D-AA33-F5ADF1C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74B2E-3F8F-44A0-9165-0A20128B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7C89-4582-4E02-A31C-33D5B2C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5B2-FA86-4EA1-9C32-FF72878E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00761-2A94-4F06-80F3-2F1DB5A7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0BAF3-D0FD-43C1-869B-033FDC2C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7F53-5233-45AA-95D4-13D9C9EC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0C655-19B0-45AC-B9B5-83DEEC12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E48F7-7EE1-44D9-8A76-C6436AD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4C565-99AE-4F50-AAC4-0AB9EF2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53AC1-EAF4-417E-B8CB-1128AF7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86925-D664-4F05-8494-06D6A47E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F282B-1B78-4334-8300-E62315B6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2C299-B267-4429-88CB-016DCAF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2028-7DAD-4062-87A4-6E4D939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896CC-B407-4F00-B580-806C1CD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F8BF-D2BC-466B-86FF-2ABD00B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FA817-1831-4F47-9EEC-8B59532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E4A3D-2491-4669-B9C9-973457C4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A9103-13E8-468A-98DA-B68430AA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E564E-70D3-4790-9E89-3D3EAE5E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944CD-24CA-4DDC-BA48-030081A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9E2DB-BD4C-4439-9F3A-4D50391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6DA22-7621-46C9-82B0-A020D588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46D1C-6CC7-4FD1-85E0-884DC5A8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E6BC-DF1C-4283-9928-886DBA7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91C0A-5464-48B3-B8F4-7156D58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A8636-04AD-4E41-AFBB-715C1D0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FFB7A-2D28-4CF1-8BA7-42B3DFB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F6E6E-B2C2-49E5-8217-BE5D230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26C5B-3BC7-411C-8B33-E9A1F2A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E6714-6F22-4E3D-B08A-099054DA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3666C-5B29-4ADB-B9E7-8AA8A187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76DDF-4B7B-470F-9DD4-DE2ED2B9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82662-D161-48E9-AE59-E175B360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C2115-7BAA-407E-BF71-F2E2965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F28-8D32-4F2D-A56C-7DE2FF4E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23902-BBE4-492E-9E83-F976E766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5B3D6-FFB1-485C-9614-B679179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0FAEE-CCFE-426D-A73B-8312F21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8FF81-8B33-42B3-B169-B06C07A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1FB6F-EEF1-4F53-AB09-4D78A92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BEA44-A760-4D44-9CA4-7527ACB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91131-54C3-4D06-B53A-16582A79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6A3F1-B3E9-4218-91EA-753F7BB2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C43E6-9E19-40A4-A313-16124960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EA66F-74D8-4C35-BD8B-37ED1EC5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25DC-654F-407F-AC44-D18872BC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60769-9CC2-46F2-903A-7A1B32D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18962-688F-4E3C-A7B7-C63B289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5F3B7-89A3-4C78-A2B9-8318D567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A0325-0AAE-4F0B-A227-22957BC1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E7BDC-7F0C-490A-844D-5B476389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9D378-37BE-4F55-9F9C-851759C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BAFA1-AC28-4CE6-A54E-45C22CD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86F63-61FD-4E5A-94C3-F375331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08891-EE25-4632-A5CD-268E8B39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B2784-0373-4591-A621-CCAA8E42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7715-C617-41CF-9A07-B806F64D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99F70-2B31-43BC-8B60-67A77D2A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46EF-0014-40D5-B674-D7173CF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D3B-FBCF-4B68-AC27-4435B26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C574-FBBB-4D80-92BF-5DA577E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5A5F-8DED-4FA7-9895-3714522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36D7-E08B-4D19-89C5-83CA47D3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862F-61DE-4471-87E4-32FB6A11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BA7C-D6D0-4314-ADE3-5997B0E3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214E-550F-4F51-9302-9DC06904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FC0A-C976-428C-B5B7-05A13BBA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CDDE-1770-4BB5-932B-FF66804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3F13-60E8-48B3-B6CB-FA209C15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3E60-F49A-426B-B352-A1FC4EB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67C-8FA6-4FDF-B2EA-AC2D7FF8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30EA-20AA-49D9-B212-6A5B7FB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A662-1BDC-497D-ACD8-E6D42B3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C71A-B73D-49C4-A8D7-8067D001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BC18-01EC-4722-AA62-DFC1AD3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F779-FA43-4043-8F8C-3DA758F3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FD44-7F8B-487F-9F8E-65B16FCD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8317-FCF8-4EC8-8B3A-80B1A4D0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A9A0-9165-462A-84F5-50E9A860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2C93-9774-44C1-9494-14E1D1C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859D-8EDC-47C2-A10C-A230C923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442-4899-4BB1-8958-79810A9A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E274-BE7E-40C3-BEEE-A870407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7757-CABF-4AE9-A515-09AE465E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EE1F-0945-486B-A2BD-DF432212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35C9-2B2E-4524-8D5B-CF927DA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C32D-D8D0-4BEB-BEDA-4F688D5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52FE-D599-4E90-B436-A9BAD8C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B082-0E3A-431B-ADC0-31714FE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53CB-3843-4550-99E3-A15A38B7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A4C3-06A0-4AAF-9D3D-2AEBC61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4C65-6F9E-4653-8783-BD257CE7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1DB-B82E-429E-920A-D50F019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73B2-424C-4976-876F-ADEF585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5623-D234-42C6-8866-4EEE515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E8B1-1376-464C-B9BE-B8B1A89D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A304-FE0C-4346-B0EB-F374446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CA701-E863-4148-BA66-02B10DBA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064B-7CE0-4870-B3C6-E7ED1C2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1F9F-41C6-44E8-AB30-5FE9DA2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D0D4-8B5C-468B-90EF-301E830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77AF-7DB4-43AA-8ADB-6E2B9FA7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BD24-36C2-4BFE-87E8-8ADBE5F3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99A-FA12-4612-8200-9FCE6E5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DAF5-1CCF-47D5-BC65-516B29E1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D4E7-DCA2-4563-B13B-81B7829A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D3D3-97A6-4A16-A494-B2B64D55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472B-477D-4210-988D-4BF919D7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BA706-8647-45C6-954D-6A63CD9D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4B3C-B713-4388-BD7B-A03D2AF3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52E76-6558-425A-9F4D-7E7F0F7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145A-6234-4F80-B3D8-4BCA165C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8344-3F89-4E54-9FAE-D2B1082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F88F0-43C7-4239-B291-1141B0E2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5F0-8C49-496C-A987-CF81C63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F7541-A4A1-4F8C-853F-870B5D05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6A6E-35B4-4A37-912D-6BC4B32E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1E7DA-9B46-4A67-B703-DDE4DA47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7CCFB-E0C6-49E5-9E8D-C4BB2E5F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D3850-0654-4ED2-97D3-69670449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D6AF-0115-4CAC-AFFB-B6CAB099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62BBA-9159-44D5-8429-CC00AB62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9F6EE-62B1-4E84-9606-E398E589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C9CD-4053-4F12-8358-52E0211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23806-DE02-4B65-B75F-58F150B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2A6-5E92-4469-9BC5-EECC4BE8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6BE02-615F-4352-BCD5-1C81852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79768-752D-4928-878F-F6D4DA2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378CF-36F5-4C28-AFDA-0130E94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9587-9173-4F28-AE70-837061B8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65B8E-E759-484B-AFC5-B86C876A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C3CDD-6526-43D3-AE1F-C55E34E1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8E806-F8C0-476F-BDB9-6357E2C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FBE6-210D-405E-B803-CEF74898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8A12-D16B-4D5F-B5F1-1FA55B8F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3E3A-80FA-478A-8063-518F53D4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E60-70B4-4E50-BDEA-1E3964D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AA99-4E2E-4C31-A308-4319A1A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DA1A6-0183-45B7-BEEA-752CEE71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5ABE-5371-49FC-B90C-0253E3F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10FA0-9E06-48EF-B870-C34C2FA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03347-2431-4075-AFEE-788236D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15638-2D2D-49A5-9A8F-BE87EFFB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59BB1-155E-41B6-8A63-8088B0D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CAFCE-3573-4575-9772-6E8603D3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BB91-2558-49E7-9C41-73D7E2F8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CED94-5EF0-4067-A4EA-F7C69CE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D946-3738-4662-9F49-FF06FD7DDF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7D3-BE07-4073-AF11-F1CEF77136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E170-E98C-4379-9F23-21A138AFA8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B5A2-7704-40D7-BC98-993F26523D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1579-027D-44D3-9C36-8AD974B225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AA41-F4BD-45BF-950E-7086D8F7C3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6EDE-839F-4317-9C35-46BF7A9FBF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400" y="452232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3680" y="43333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4520" y="40363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2360" y="37774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3360" y="346140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2640" y="32068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0360" y="26636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080" y="240552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9880" y="18532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680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4CD-2E00-48C6-BE23-546248AB2E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D24-53CF-4658-B8CD-701AEDF03C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BA49-6DE1-49DE-947A-97FAB6B338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9F26-B356-4DA6-96AA-88F8FD5682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062-D03F-41B9-863F-6659DBF025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8F3-2155-44E3-BE99-A8EF6418B8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39AF-E134-4A19-965B-7B159D8032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89C1-4044-4B7B-9C2B-2EE9403204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7e7dd"/>
                </a:solidFill>
                <a:latin typeface="Arial"/>
              </a:rPr>
              <a:t>Make More Miles with Your Mixers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3b34"/>
                </a:solidFill>
                <a:latin typeface="Verdana"/>
              </a:rPr>
              <a:t>Brian Justin, WA1Z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a3b34"/>
                </a:solidFill>
                <a:latin typeface="Verdana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b34"/>
                </a:solidFill>
                <a:latin typeface="Verdana"/>
              </a:rPr>
              <a:t>Microwave Update 20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ugh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6483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mode for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ris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resistor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resistance is non-linea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c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motor driven potentiome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l is current flowing in po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LO drive is “spinning the knob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e: The LO modulates the RF/I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LO Drive Pow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ey to a good mixer is LO dr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to be able to pump or swing the diode across its full V-I cur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Rectangle 10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9" name="Object 12"/>
          <p:cNvGraphicFramePr/>
          <p:nvPr/>
        </p:nvGraphicFramePr>
        <p:xfrm>
          <a:off x="3048120" y="4495680"/>
          <a:ext cx="26953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495680"/>
                    <a:ext cx="26953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etting LO Drive to the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LO power is “cheap”, just run it up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B6NT PCB for &gt;10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543040" y="3809880"/>
            <a:ext cx="3333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mple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5" name="Object 5"/>
          <p:cNvGraphicFramePr/>
          <p:nvPr/>
        </p:nvGraphicFramePr>
        <p:xfrm>
          <a:off x="990720" y="2362320"/>
          <a:ext cx="7315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315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dding DC bias to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8" name="Object 15"/>
          <p:cNvGraphicFramePr/>
          <p:nvPr/>
        </p:nvGraphicFramePr>
        <p:xfrm>
          <a:off x="838080" y="1066680"/>
          <a:ext cx="75438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5438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’ve also just create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imple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consider DC conditions of th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RF impedances must be matched for best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762120" y="1384200"/>
          <a:ext cx="716256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84200"/>
                    <a:ext cx="71625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hat does DC bias “buy us”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provides us a chance to select the operating point of a given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reduces need for large LO sig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low LO drive (even with bias) makes conversion loss higher than with high LO dri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than nothing thoug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ulation can show us that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94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152280" y="-152280"/>
            <a:ext cx="5410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s talk will cov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sics of diode-based mm-wave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of the basic diode as a non-linear de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stor mode of diode 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 circuit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ngle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1" name="Object 4"/>
          <p:cNvGraphicFramePr/>
          <p:nvPr/>
        </p:nvGraphicFramePr>
        <p:xfrm>
          <a:off x="985680" y="1600200"/>
          <a:ext cx="71726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600200"/>
                    <a:ext cx="71726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general purpose mixer/mul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broadb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conversion loss (30</a:t>
            </a:r>
            <a:r>
              <a:rPr b="0" lang="en-US" sz="2400" spc="-1" strike="noStrike" baseline="5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B)…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&gt;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5" name="Object 4"/>
          <p:cNvGraphicFramePr/>
          <p:nvPr/>
        </p:nvGraphicFramePr>
        <p:xfrm>
          <a:off x="914400" y="1371600"/>
          <a:ext cx="7237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237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ilar case as with singl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take more driv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st for higher power TX mixe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used within the following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parallel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called back-to-back p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cellent for power tripler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C bias prot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poor as mix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0" name="Object 5"/>
          <p:cNvGraphicFramePr/>
          <p:nvPr/>
        </p:nvGraphicFramePr>
        <p:xfrm>
          <a:off x="457200" y="1606680"/>
          <a:ext cx="822960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6680"/>
                    <a:ext cx="82296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x3 harmonic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icult to implement balun for LO dr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457200" y="1657440"/>
          <a:ext cx="8229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7440"/>
                    <a:ext cx="8229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xample of WG balun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37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5181480" y="1523880"/>
          <a:ext cx="882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523880"/>
                    <a:ext cx="88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non-linear behavior of dio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w how drive power &amp; bias are import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common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42" name="Object 8"/>
          <p:cNvGraphicFramePr/>
          <p:nvPr/>
        </p:nvGraphicFramePr>
        <p:xfrm>
          <a:off x="7238880" y="1371600"/>
          <a:ext cx="93996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371600"/>
                    <a:ext cx="9399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0"/>
          <p:cNvGraphicFramePr/>
          <p:nvPr/>
        </p:nvGraphicFramePr>
        <p:xfrm>
          <a:off x="1181160" y="1447920"/>
          <a:ext cx="1028520" cy="9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1160" y="1447920"/>
                    <a:ext cx="10285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1"/>
          <p:cNvGraphicFramePr/>
          <p:nvPr/>
        </p:nvGraphicFramePr>
        <p:xfrm>
          <a:off x="3313080" y="1371600"/>
          <a:ext cx="34452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3080" y="1371600"/>
                    <a:ext cx="3445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Mixer as The Front En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bands above 76GHz, mixers as the front-end of RX or last stage of TX are still comm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llent designs by DB6NT &amp; DL2AM, and other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mple, easy, and yet very smal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ce to pay is high conversion loss AND a poor noise fig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basic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istor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thi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havior that is used to create harmonics or mix sig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71" name="Object 11"/>
          <p:cNvGraphicFramePr/>
          <p:nvPr/>
        </p:nvGraphicFramePr>
        <p:xfrm>
          <a:off x="5326200" y="1600200"/>
          <a:ext cx="26827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6200" y="1600200"/>
                    <a:ext cx="26827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12"/>
          <p:cNvGraphicFramePr/>
          <p:nvPr/>
        </p:nvGraphicFramePr>
        <p:xfrm>
          <a:off x="5319720" y="3941640"/>
          <a:ext cx="26956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9720" y="3941640"/>
                    <a:ext cx="2695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s are not so simpl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876" name="Object 4"/>
          <p:cNvGraphicFramePr/>
          <p:nvPr/>
        </p:nvGraphicFramePr>
        <p:xfrm>
          <a:off x="1866960" y="1600200"/>
          <a:ext cx="54100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600200"/>
                    <a:ext cx="54100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sitics can limit diode RF performanc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mm-waves, packaging is a real iss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amp;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e well understood for top-notch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Unique diod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m-wave diodes are very challen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ckages include raw die, beam-lead, and flip-chips for the &gt;50GHz frequency r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may only be a few hundred microns on a 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nction capacitance is measured i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pictur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933480" cy="19051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3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324160" cy="2187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E:\jlh justin diode pics\thz row c.jpg"/>
          <p:cNvPicPr/>
          <p:nvPr/>
        </p:nvPicPr>
        <p:blipFill>
          <a:blip r:embed="rId4"/>
          <a:stretch/>
        </p:blipFill>
        <p:spPr>
          <a:xfrm>
            <a:off x="5867280" y="1752480"/>
            <a:ext cx="2225880" cy="16686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7" descr="E:\jlh justin diode pics\thz row a side.jpg"/>
          <p:cNvPicPr/>
          <p:nvPr/>
        </p:nvPicPr>
        <p:blipFill>
          <a:blip r:embed="rId5"/>
          <a:stretch/>
        </p:blipFill>
        <p:spPr>
          <a:xfrm>
            <a:off x="762120" y="4343400"/>
            <a:ext cx="2682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mmercial Mixer Block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8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other mixer…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3333600" cy="2752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262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6:38:04Z</dcterms:created>
  <dc:creator>Administrator</dc:creator>
  <dc:description/>
  <dc:language>en-US</dc:language>
  <cp:lastModifiedBy>b</cp:lastModifiedBy>
  <dcterms:modified xsi:type="dcterms:W3CDTF">2011-09-26T15:33:10Z</dcterms:modified>
  <cp:revision>67</cp:revision>
  <dc:subject/>
  <dc:title>A Primer on mm-Wave Multipliers and Mixers</dc:title>
</cp:coreProperties>
</file>